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A46-5806-4AD2-9803-0B6BE430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543-9347-4044-8294-57524843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50F-0D03-4766-BB11-55BE102B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F30-4D50-4CF7-A62C-EE6210C5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E60B-502A-4021-9A18-5FBEE38A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8A54-A761-44D3-8839-8CFE2510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BF4E-62F3-4C76-B56F-804FD0A4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91DD-B445-4AD9-9545-11ACD92B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90CD-2C12-4671-A8A4-56384433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978C-4D76-465F-83BF-08E68D31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B3FD-6D9A-4F40-907A-416E627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BFD-4EA1-4051-81BB-A0EAFCCC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708D-28E2-41E3-AA3E-D641DE99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3C5B-8C07-4B01-9383-88D591AD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F6FD-627A-47A3-B1C5-59750DF2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74AE-EC43-41B1-B3C4-ADB2B64E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1154-324E-4C8A-9BE8-0101671F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95C-D646-4624-87F9-F9148176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165-9855-4B9D-A096-23534740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F68-D20B-422F-BB43-E461D729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3A8-251F-4A32-B1E4-5AFADD25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EFF-9842-4E04-932E-DA3AAC2F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DE4-CC36-43F9-8436-726601ED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AB1-B467-4666-8E45-C1B0AB12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C604-7510-43CC-A663-F879D454AAD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30D5-C759-441D-BF54-5EB5FE7EC0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752480" cy="5562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D134-8831-4E02-8417-661B61CF86A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554C-141F-4DB8-9B55-F1D9545EE2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1752120"/>
            <a:ext cx="6781680" cy="1295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ternational Computer Co.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743200" y="3733920"/>
            <a:ext cx="541008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1D4F-B41E-4721-A3DE-5B1D0F3B4B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67FA-831B-419F-AA67-F83809576F2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Worldwide Markets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96252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7556-A0C8-41BE-A1CA-B38303DA05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E7D7-72D6-43F5-B42D-29EEE51096A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North America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74320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33"/>
          </a:solidFill>
          <a:ln w="0">
            <a:noFill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0E83-5C48-4B1F-97E9-0D9E6DD15B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01F6-122C-403E-8DC8-4EBA6CAB977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Europe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1D60-2FB4-4BFF-A6EC-F06C87263E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5E46-07C8-42D4-9F52-F3A27C733A6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Australia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Total Sales (All Regions)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97160" y="2436840"/>
          <a:ext cx="6908760" cy="3125520"/>
        </p:xfrm>
        <a:graphic>
          <a:graphicData uri="http://schemas.openxmlformats.org/drawingml/2006/table">
            <a:tbl>
              <a:tblPr/>
              <a:tblGrid>
                <a:gridCol w="1726920"/>
                <a:gridCol w="1727280"/>
                <a:gridCol w="1727280"/>
                <a:gridCol w="1727280"/>
              </a:tblGrid>
              <a:tr h="94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7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8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9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mma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B3B-2884-4DC4-A7D8-1E90229ACA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E6E10-585A-44BE-9289-67759D0A1F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Sales (by Computer Model)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3360" y="1752480"/>
          <a:ext cx="82357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752480"/>
                    <a:ext cx="82357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mmary Re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1B5-8EEA-4E62-A52C-2BF2E3FC17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B34E2-9658-4CA0-9B67-C88BF8D88A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3366"/>
                </a:solidFill>
                <a:latin typeface="Arial"/>
              </a:rPr>
              <a:t>International Computer Co.</a:t>
            </a:r>
            <a:endParaRPr b="1" i="1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 are right on targ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2319120" cy="243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3581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next three years we hope to increase worldwide sales by more than 500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mmary Re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170-7C77-4752-A926-DF739D7E77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CD824-0C89-41CC-BDD8-FE955EADBF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32Z</dcterms:modified>
  <cp:revision>33</cp:revision>
  <dc:subject/>
  <dc:title>Summary Report</dc:title>
</cp:coreProperties>
</file>