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F6C-4CBA-4E72-B0A7-365A51C2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B12-CB24-43E5-8D41-84A2CAB0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E85-907A-4C60-906C-6315868F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03-2974-483D-BA8B-3E37ACFE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F8C-54BC-471E-A2DD-938EEB4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D4F-2299-43CF-A59A-5BF26DB3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629-4371-4B68-A8EF-92A452D3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6EE-863A-4FAD-AEA8-0B3AC32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133-AA42-45D2-A3B3-CEBD024C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3DA-036C-4FC1-B9EB-316EE258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994-FF13-4972-8885-C9F4C631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FF8-79E8-4886-96CD-C2D5734B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1FC-D739-4EE1-8985-9162F4B7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Attendees (Word, Excel and Access Cour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076480"/>
          <a:ext cx="74404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6480"/>
                    <a:ext cx="74404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ering more than 100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0560" y="3581280"/>
            <a:ext cx="2368440" cy="233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03848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the last 5 years, we have trained more than 500,000 individuals in our training centers across the count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19Z</dcterms:modified>
  <cp:revision>33</cp:revision>
  <dc:subject/>
  <dc:title>New Courses</dc:title>
</cp:coreProperties>
</file>