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A3F-B641-44A6-A8D7-0BCD169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A4A-E9F1-4084-B39B-9D295475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FF7-9E85-4694-A80C-7CBA18F5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0E8-3E44-4A18-877F-246BD05B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D4F-78CB-48F5-B1E6-273A5CA5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702-1FCA-455B-9F0B-D97F6EC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7DF-12DB-4A64-87CE-EB7D4061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C04-29E6-4022-ADA2-31992ABE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5FC-A29B-4475-858A-B02DD9A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A55-B028-42C7-9F74-05EB13C0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1F5-62EE-4E67-9967-8577C35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D31-15BC-4B80-9E4E-2C83D11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9D0-1301-4304-A67D-800B4A32D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354480"/>
            <a:ext cx="3124080" cy="2970000"/>
          </a:xfrm>
          <a:prstGeom prst="star5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648320"/>
            <a:ext cx="4267080" cy="1600200"/>
          </a:xfrm>
          <a:custGeom>
            <a:avLst/>
            <a:gdLst>
              <a:gd name="textAreaLeft" fmla="*/ 974160 w 4267080"/>
              <a:gd name="textAreaRight" fmla="*/ 3292920 w 42670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rn PowerPoi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20Z</dcterms:modified>
  <cp:revision>16</cp:revision>
  <dc:subject/>
  <dc:title>New Courses</dc:title>
</cp:coreProperties>
</file>