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59BA-503C-473E-87FB-BE8611B39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7110-5A59-4867-998B-30E17F6F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9B83-B64C-4D5B-B3AD-EFC23EE01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E17F-EF98-482C-AB1A-7E08BCE89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19ED-7FA4-4384-9706-86030FAF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2676-A74B-4ABC-9E67-9253EDEF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71ED-67B9-494F-96CA-7D30485F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3B1B-A3AD-486D-B668-A74160A7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1B11-997E-4EE6-BDFC-DB2647FD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9B0D-1152-45DB-8EF0-54C75AFA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DCEA-EAB9-4EC5-B593-D128D894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0DC2-A7F8-4801-BDE7-7D8D8D7E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844F-7BA5-468D-8E04-CA4D0947B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C Computer Education C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 and Winter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86400" y="3354480"/>
            <a:ext cx="3124080" cy="2970000"/>
          </a:xfrm>
          <a:prstGeom prst="star5">
            <a:avLst/>
          </a:prstGeom>
          <a:solidFill>
            <a:srgbClr val="ff0000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ps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in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Cour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 Office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 Processing for Legal Secret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to Database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oft Office 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new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ables, charts and clip art to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 a design template to a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 a slide s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4648320"/>
            <a:ext cx="4267080" cy="1600200"/>
          </a:xfrm>
          <a:custGeom>
            <a:avLst/>
            <a:gdLst>
              <a:gd name="textAreaLeft" fmla="*/ 974160 w 4267080"/>
              <a:gd name="textAreaRight" fmla="*/ 3292920 w 426708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rn PowerPoi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ludes a Delicious Lu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urmet sandwi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ast chic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ecued be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rami on r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made pa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sh sal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 Attendees (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Qtr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914400" y="2438280"/>
          <a:ext cx="7315200" cy="3657600"/>
        </p:xfrm>
        <a:graphic>
          <a:graphicData uri="http://schemas.openxmlformats.org/drawingml/2006/table">
            <a:tbl>
              <a:tblPr/>
              <a:tblGrid>
                <a:gridCol w="1828440"/>
                <a:gridCol w="1829160"/>
                <a:gridCol w="1828800"/>
                <a:gridCol w="1828800"/>
              </a:tblGrid>
              <a:tr h="73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o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e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e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Y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cag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3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t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3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n Dieg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rse Attendees (Word, Excel and Access Cours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62120" y="2076480"/>
          <a:ext cx="7440480" cy="409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76480"/>
                    <a:ext cx="744048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7T17:39:09Z</dcterms:created>
  <dc:creator/>
  <dc:description/>
  <dc:language>en-US</dc:language>
  <cp:lastModifiedBy/>
  <dcterms:modified xsi:type="dcterms:W3CDTF">2004-01-28T14:00:08Z</dcterms:modified>
  <cp:revision>27</cp:revision>
  <dc:subject/>
  <dc:title>New Courses</dc:title>
</cp:coreProperties>
</file>