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B3EC-7962-413E-A4E9-20C73037C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A9AD-3790-46CC-9A2C-B1B715E6A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C2A9-F8B3-4C7E-A480-A9656361D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AF15-920A-4134-BAA8-D9D790E87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813C-1FF1-48B9-9DE8-4C02FA076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F67D-9F4B-4470-8256-898330803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3C98-A84A-41CD-98C4-2F33EB378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469D-161F-4B53-AEB9-DC73F7012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9F03-0C21-4E92-A73E-C55024A19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7398-9895-4244-846A-E49C40E05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0F4D-6A2E-43CB-BE63-0BFAE355A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07F8-9649-4CB5-8225-A14BF1BE7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4B31B-A817-4675-A525-C9F742B128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tional Computer C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ldwide Mark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th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stra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62520" y="4267080"/>
            <a:ext cx="4343400" cy="1828800"/>
          </a:xfrm>
          <a:prstGeom prst="ellipse">
            <a:avLst/>
          </a:prstGeom>
          <a:solidFill>
            <a:srgbClr val="cc0000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- We’re Everywhere 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th Amer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re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ro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ed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Y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c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 Ange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343400" y="2895480"/>
            <a:ext cx="3809880" cy="1447920"/>
          </a:xfrm>
          <a:prstGeom prst="roundRect">
            <a:avLst>
              <a:gd name="adj" fmla="val 16667"/>
            </a:avLst>
          </a:prstGeom>
          <a:solidFill>
            <a:srgbClr val="990099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ur new Vancouver off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 scheduled to open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d of this yea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verp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a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stral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South W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d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cas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ens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sb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i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tal Sales (All Region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914400" y="2973240"/>
          <a:ext cx="7315200" cy="312264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rth Ameri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uro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stral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</a:tr>
              <a:tr h="724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C7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5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9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2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2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C8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6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3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5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2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C9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8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7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6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les (by Computer Mode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04920" y="2057400"/>
          <a:ext cx="8235720" cy="452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057400"/>
                    <a:ext cx="8235720" cy="452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tional Computer C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les are right on targe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066680" y="3048120"/>
            <a:ext cx="2319480" cy="2438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038480" y="373392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next three years we hope to increase worldwide sales by more than 500%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7T21:02:08Z</dcterms:created>
  <dc:creator/>
  <dc:description/>
  <dc:language>en-US</dc:language>
  <cp:lastModifiedBy/>
  <dcterms:modified xsi:type="dcterms:W3CDTF">2004-01-28T14:00:17Z</dcterms:modified>
  <cp:revision>22</cp:revision>
  <dc:subject/>
  <dc:title>Summary Report</dc:title>
</cp:coreProperties>
</file>