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DED-D89C-42E8-970F-296AD665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CED-41BD-4583-958B-6999C6E3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1D4-2F75-4A4F-8357-182593AF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8D3-FA57-432F-BA78-0EF19AAF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1B3-6A04-455E-97A6-C5FD8CF1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6E1-BA9C-498E-B003-C1E5C9EA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9C3-2793-4832-80CF-7CF012C5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34F-C3E9-4AF0-B6C7-03DAF57F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F56-8EAE-423F-B747-1F39EC78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4DB-12FA-47E8-BE09-D5F82DC9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494-0A60-4E43-A372-03D84772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633-C22F-476E-9A6E-323532A0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5C13-99B7-42C8-88EA-DDDB8A456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nd Winter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 for Legal Secre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bas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bles, charts and clip art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 design template to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648320"/>
            <a:ext cx="4267080" cy="1600200"/>
          </a:xfrm>
          <a:custGeom>
            <a:avLst/>
            <a:gdLst>
              <a:gd name="textAreaLeft" fmla="*/ 974160 w 4267080"/>
              <a:gd name="textAreaRight" fmla="*/ 3292920 w 42670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PowerPoi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s a Delicious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met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st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ecued b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rami on 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made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sa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Attendees (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tr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2438280"/>
          <a:ext cx="7315200" cy="3657600"/>
        </p:xfrm>
        <a:graphic>
          <a:graphicData uri="http://schemas.openxmlformats.org/drawingml/2006/table">
            <a:tbl>
              <a:tblPr/>
              <a:tblGrid>
                <a:gridCol w="1828440"/>
                <a:gridCol w="1829160"/>
                <a:gridCol w="1828800"/>
                <a:gridCol w="1828800"/>
              </a:tblGrid>
              <a:tr h="73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o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e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ca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n Die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30Z</dcterms:modified>
  <cp:revision>22</cp:revision>
  <dc:subject/>
  <dc:title>New Courses</dc:title>
</cp:coreProperties>
</file>