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E29-E246-490E-8CCE-E9737D29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A62-0985-4FBF-9810-F96803F9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076-0DCF-4852-BA84-B4C8E031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A31-8F04-4299-95BB-DED12023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DAF-EBC8-4795-92FB-7F2EECAA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63D-DB0D-4B7D-92A9-43DC0DFB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FA3-F2BE-4616-BC30-0A7E3792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9CD-3369-46EF-B796-4A03FE0D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86C-7FB0-438E-9CDC-44A7DCC6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FFF-8B1E-4E6C-A7D4-089FB7A0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C9B-0146-4BCA-8029-182D8904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E33-226A-49DC-BC78-691A54C7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6A75-1682-4841-94FA-ADAFD09B9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Computer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wide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outh W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1:02:08Z</dcterms:created>
  <dc:creator/>
  <dc:description/>
  <dc:language>en-US</dc:language>
  <cp:lastModifiedBy/>
  <dcterms:modified xsi:type="dcterms:W3CDTF">2004-01-28T14:00:07Z</dcterms:modified>
  <cp:revision>3</cp:revision>
  <dc:subject/>
  <dc:title>Summary Report</dc:title>
</cp:coreProperties>
</file>