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2FA3-1E6F-44D0-8FE9-47A2129D0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1675-A36D-4C94-8DB4-F9E5F782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280F-E96B-43D7-8873-ED4E9A97B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8D9F-F122-4B66-B5C7-5DA547A60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6240-DF4C-4866-843D-C78178645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EEC7-07B4-468E-AC35-4C374424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F370-64C8-4184-83CE-CDE0B2BF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DD30-9319-4414-BDE0-0839C30A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F757-5266-47A2-BA70-A549105E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18A8-F277-4BB6-B502-36A59016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D900-04F0-43B8-9A38-62C2C221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874C-A9C7-4144-BC29-A3C9684E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C95D-9D91-4D92-ADF5-4B8DCE53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BD37-F1DA-41A9-8A56-B5D9A8A1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77EE-0027-4C40-BE03-5656D9BE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1C27-AADA-488E-8B24-BA7ABC0B3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BA34-D924-46B3-8C1D-21BC035AE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23B7-4142-4008-8669-EE8EF4A4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B4ED-7D40-4529-923C-D3CF7DAD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05BD-17CB-4082-8063-9632B980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C51C-3482-4198-9142-2F7BDE82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84FC-724B-47A6-BF8E-A35A8726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05BA-3BC4-4A3C-B8BF-E8D6E85A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9BFD-8A75-4174-8BD7-0AA5DEF6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738D-3D57-46ED-ACB9-BC448A857ED1}" type="datetime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8427-BD78-4749-A458-97C3ACEBE80E}" type="slidenum">
              <a:rPr b="1" lang="en-US" sz="26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1F07-0A25-4AD7-ACE7-216D354C04E8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B6C0-5767-46E5-9DB0-1C1B671460CC}" type="slidenum">
              <a:rPr b="1" lang="en-US" sz="26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8001000" cy="19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ABC Computer Education Co.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240" y="3657600"/>
            <a:ext cx="42670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all and Winter Courses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3506760"/>
            <a:ext cx="3124440" cy="2970360"/>
          </a:xfrm>
          <a:prstGeom prst="star5">
            <a:avLst/>
          </a:prstGeom>
          <a:solidFill>
            <a:srgbClr val="ff0000"/>
          </a:solidFill>
          <a:ln w="0">
            <a:noFill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ps 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ining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D388-FC3C-48CF-A553-207CAF73C5EE}" type="slidenum">
              <a:rPr b="1" lang="en-US" sz="2600" spc="-1" strike="noStrike">
                <a:solidFill>
                  <a:srgbClr val="cc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2DCD-9DAF-4FCD-81A4-A3342518E2D9}" type="datetime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New Courses</a:t>
            </a: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ffice PowerPo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d Processing for Legal Secretar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roduction to Database Programm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Microsoft Office PowerPoint</a:t>
            </a: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e a new presen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 tables, charts and clip art to sli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ly a design template to a presen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duce a slide sho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4648320"/>
            <a:ext cx="4267440" cy="1600200"/>
          </a:xfrm>
          <a:custGeom>
            <a:avLst/>
            <a:gdLst>
              <a:gd name="textAreaLeft" fmla="*/ 974160 w 4267440"/>
              <a:gd name="textAreaRight" fmla="*/ 3293280 w 4267440"/>
              <a:gd name="textAreaTop" fmla="*/ 365040 h 1600200"/>
              <a:gd name="textAreaBottom" fmla="*/ 1235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  <a:effectLst>
            <a:outerShdw dist="107932" dir="81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rn PowerPoint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C Computer Education 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DDEC-6A70-42F3-90CD-78CA035F077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1A9E92-AAF0-4B75-842A-27ED6F1E37C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54BA-E67C-46D1-8840-FC8FE8595E5C}" type="slidenum">
              <a:rPr b="1" lang="en-US" sz="2600" spc="-1" strike="noStrike">
                <a:solidFill>
                  <a:srgbClr val="cc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67F2-0914-4A7A-B459-FDDEDF6DFF24}" type="datetime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Includes a Delicious Lunch</a:t>
            </a: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urmet sandwich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oast chic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arbecued bee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strami on ry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memade pas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esh sala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Course Attendees (4</a:t>
            </a:r>
            <a:r>
              <a:rPr b="1" i="1" lang="en-US" sz="36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 Qtr.)</a:t>
            </a: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65400" y="2933640"/>
          <a:ext cx="6838920" cy="3009960"/>
        </p:xfrm>
        <a:graphic>
          <a:graphicData uri="http://schemas.openxmlformats.org/drawingml/2006/table">
            <a:tbl>
              <a:tblPr/>
              <a:tblGrid>
                <a:gridCol w="1709280"/>
                <a:gridCol w="1710000"/>
                <a:gridCol w="1710000"/>
                <a:gridCol w="1709640"/>
              </a:tblGrid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ober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ember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ember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60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York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4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57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04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cag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5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76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2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0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rtlan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3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19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35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0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n Dieg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45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72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92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C Computer Education Co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54EE-EE99-44F4-A46F-D146EDE00AF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7F2BB2-9B3A-475C-8371-BD14686BB72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9905-BCCB-4EA3-B717-2DFD07F81F38}" type="slidenum">
              <a:rPr b="1" lang="en-US" sz="2600" spc="-1" strike="noStrike">
                <a:solidFill>
                  <a:srgbClr val="cc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3F76-4D83-41C8-92E6-D718D18CC411}" type="datetime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Course Attendees (Word, Excel and Access Courses)</a:t>
            </a:r>
            <a:endParaRPr b="1" i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14400" y="2438280"/>
          <a:ext cx="7020000" cy="386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438280"/>
                    <a:ext cx="7020000" cy="38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ABC Computer Education Co.</a:t>
            </a:r>
            <a:endParaRPr b="1" i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Offering more than 100 cour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65120" y="3505320"/>
            <a:ext cx="2368800" cy="2338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800600" y="3962520"/>
            <a:ext cx="380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In the last 5 years, we have trained more than 500,000 individuals in our training centers across the country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BC Computer Education Co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B443-A5D2-4D2D-82F9-FD521DE9E1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C28946-AD44-40B7-8AB4-B7460C83B0D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7T17:39:09Z</dcterms:created>
  <dc:creator/>
  <dc:description/>
  <dc:language>en-US</dc:language>
  <cp:lastModifiedBy/>
  <dcterms:modified xsi:type="dcterms:W3CDTF">2004-01-28T14:00:30Z</dcterms:modified>
  <cp:revision>50</cp:revision>
  <dc:subject/>
  <dc:title>New Courses</dc:title>
</cp:coreProperties>
</file>