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BD7-1896-4D16-8D55-2D23B5EF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843-4E64-4C46-820F-D0D1FE2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24E-CAC0-4421-9E89-DE8517D0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A8F-05EB-4B8B-9884-C0DF2B25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798F-DB96-49B6-B0E3-371E88A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334-EE3E-4A89-9A28-08E54214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EDC-4577-4588-9B4C-2B79D495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D99-35E0-41A3-9A07-D02AB45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C74-DED4-4B07-9C35-B0C707AD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CBF-1ABE-436C-BFD3-29927E3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467-01D1-4A7D-A138-D130A43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651-F584-4043-ADA2-699E148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E18-119C-4545-B4CD-39DEC671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Sales (All Reg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2973240"/>
          <a:ext cx="7315200" cy="3122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s (by Computer Mod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4920" y="2057400"/>
          <a:ext cx="82357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357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08Z</dcterms:modified>
  <cp:revision>19</cp:revision>
  <dc:subject/>
  <dc:title>Summary Report</dc:title>
</cp:coreProperties>
</file>