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4E1-A599-4EE7-A112-C09A24B9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278-7177-422C-96F4-F23C65E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526-AC89-4D1D-BA54-2EDA34BF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3C3-847C-4D8F-B751-5A25E555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590-8596-4DF9-885E-8F83554D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CF1-E01E-41E2-877D-18762F5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360-5A67-4B14-B0D4-CCDCD659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9C9-8B37-4D63-9CA6-CC5CD94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B78-99D1-4AA0-A209-278FAB87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416-162C-4131-B99C-B53EEFE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937-CB1A-4E76-BF9E-5CC9978A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6BB-6E56-4E9E-AA0F-A55C6786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715-48C6-4E34-B360-83F9A3C5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C Computer Education 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and Winter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Cou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cessing for Legal Secre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Databas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ffice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ables, charts and clip art to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a design template to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a slid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des a Delicious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urmet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st 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ecued b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rami on r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made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sal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7:39:09Z</dcterms:created>
  <dc:creator/>
  <dc:description/>
  <dc:language>en-US</dc:language>
  <cp:lastModifiedBy/>
  <dcterms:modified xsi:type="dcterms:W3CDTF">2004-01-28T14:00:08Z</dcterms:modified>
  <cp:revision>8</cp:revision>
  <dc:subject/>
  <dc:title>New Courses</dc:title>
</cp:coreProperties>
</file>