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C85-E99A-4A0B-90B2-5ED48F30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258-D6F4-48C7-A13C-713FDFDA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137-50EF-44CC-B541-CDD97C7D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528-6CE0-4A86-AC36-C5FB06AC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F2F-D330-4AA4-959D-A359CD06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224-7439-42FC-B539-701EBB3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9BD-AD96-4337-8552-7C73A82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00E-E03C-4A07-A883-82B8D04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729-A1E3-4C1B-B578-9AABADA6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BAC-A8AC-4A95-B2BC-0F69E8CE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0AA-278F-4CE2-B711-F9A6271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BC6-B5EF-4494-BF5C-9C5AA12A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3D58-383A-4103-B3DD-A90D67E9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267080"/>
            <a:ext cx="4343400" cy="18288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 We’re Everywhere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89548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9900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new Vancouver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cheduled to ope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17Z</dcterms:modified>
  <cp:revision>5</cp:revision>
  <dc:subject/>
  <dc:title>Summary Report</dc:title>
</cp:coreProperties>
</file>