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3DCF-7477-4683-BDF1-A1365245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2528-9FE4-4A2F-805A-97E38578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779-12D1-4939-83A1-DF1F67E1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088-23C4-4928-ADBA-B45F106B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618-1B4D-4F4C-84FC-67D80297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E94-2B09-4BA4-9E78-02320156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077-EA7E-49D0-BA93-BCD48E15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ABF-806D-477F-B9F8-ED67FD60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975-5975-421E-9203-3D7EBCE7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F97-696D-4480-A396-3D54DC76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262-9F3A-46B3-8869-D8915003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883-904A-452E-8CDE-F15D7859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55FA-CC0F-43E0-9CB3-5253289E6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Computer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wide 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4267080"/>
            <a:ext cx="4343400" cy="18288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 We’re Everywhere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895480"/>
            <a:ext cx="3809880" cy="1447920"/>
          </a:xfrm>
          <a:prstGeom prst="roundRect">
            <a:avLst>
              <a:gd name="adj" fmla="val 16667"/>
            </a:avLst>
          </a:prstGeom>
          <a:solidFill>
            <a:srgbClr val="9900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r new Vancouver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scheduled to ope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is y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Sales (All Regi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14400" y="2973240"/>
          <a:ext cx="7315200" cy="31226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ur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str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7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2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8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3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2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9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8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1:02:08Z</dcterms:created>
  <dc:creator/>
  <dc:description/>
  <dc:language>en-US</dc:language>
  <cp:lastModifiedBy/>
  <dcterms:modified xsi:type="dcterms:W3CDTF">2004-01-28T14:00:28Z</dcterms:modified>
  <cp:revision>12</cp:revision>
  <dc:subject/>
  <dc:title>Summary Report</dc:title>
</cp:coreProperties>
</file>