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E77-7768-491A-A66A-9148FBB7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AB2F-CC6E-4A24-A311-25208E5B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DEC-19DE-441E-A832-C328119F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722-9FA1-4829-880F-8D2B0510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81C7-0519-4FFE-8EC6-ACB78409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A242-093E-4F18-B655-39AD04EE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F66B-3265-49FD-BFCB-8B6E7332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56AB-E8B2-4E57-8C45-2FFB4B4C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68FB-1FCA-42F7-9358-900F9C7D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E11B-3427-4758-942B-97B44E4A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7F9A-5CC6-4F4D-930E-B7720495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FDC-B8A5-48CE-AB93-66BA0C47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1D23-C06D-4B7D-B09D-25E75434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0686-D455-4C1F-9407-99C044EF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6786-1287-4A23-A464-A1237EC7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EA68-1D06-40DA-AA25-5E1B9161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94DE-61CF-448F-BF17-74E2E64C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E29-1836-4D2B-8090-1D0E3FD8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53C-171A-4ECA-A208-E1439555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FE7-9B9A-4953-850E-E9496CBC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A07-7AB7-48C3-A58C-65B0D027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A9C-4DF1-4E44-982A-84C81DB5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1D9-4A07-4DD7-B9FE-61001141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E60-0F2A-4243-A13F-3E198945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C3B6-D921-4971-93FE-CFBE0A39E1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9EE5-1C01-4084-A1DF-B4EB5A5E23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1523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1302"/>
                </a:solidFill>
                <a:latin typeface="Arial"/>
              </a:rPr>
              <a:t>International Computer Co.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3526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wide Sale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International Market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9:09:29Z</dcterms:created>
  <dc:creator>Jim Hill</dc:creator>
  <dc:description/>
  <dc:language>en-US</dc:language>
  <cp:lastModifiedBy>Jim Hill</cp:lastModifiedBy>
  <dcterms:modified xsi:type="dcterms:W3CDTF">2004-03-01T14:00:14Z</dcterms:modified>
  <cp:revision>7</cp:revision>
  <dc:subject/>
  <dc:title>Worldwide Sales Summary</dc:title>
</cp:coreProperties>
</file>