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im Hill" initials="J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4-03-01T08:41:19.093000000" idx="1">
    <p:pos x="10" y="10"/>
    <p:text>Please review this presentation, and make suggested changes.  Thanks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B743-DDF2-4128-BC05-BD29F1D1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A0C9-9189-44CE-9CD7-FBEF2A17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B5B-C605-4467-8CA7-7599FC40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54A-3DB2-4843-B798-9F0DC268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7F57-0DE0-443B-80C9-90128B77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FADF-1E8E-4DF9-AF6B-2B006A57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AF29-0CD8-4AC5-82D1-45F382EB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F3AD-6FC8-4550-B044-D786EA70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05BA-F759-4FA4-A42B-721F204E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90A0-BBAF-42EF-922A-A93AE22D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326B-2042-484E-B343-FBDCB311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BF1-3A58-4FD4-923A-82E29ABF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B7F0-E424-45C6-AB3A-4B6B2ADF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1086-E1D5-43E0-B7B1-9F4D9945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E7F0-5900-4DF0-8048-77215BC2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D94D-EE9F-4559-A56D-DE94481C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D365-C11E-4575-BC53-BECB2EB7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8730-2785-4FBC-9A67-E54AC244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6FC-3429-4591-941B-0645F76F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096-7EBA-417F-AF99-4291C811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467-37D9-4929-A7AC-6F42DF73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9C2-3D23-4A32-B405-E10F71FF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B783-9579-409B-AC56-4F0422CD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63B-F684-4D31-B394-8C784178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CF15-3C91-4A43-80D6-2C9669C3DB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676520"/>
            <a:ext cx="9009000" cy="1052280"/>
            <a:chOff x="0" y="16765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784160"/>
              <a:ext cx="711360" cy="474480"/>
              <a:chOff x="290520" y="17841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7841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784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206440"/>
              <a:ext cx="737640" cy="474480"/>
              <a:chOff x="414360" y="22064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2064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206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133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6765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497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93DB-C268-4165-8E80-02EABF3B85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C Computer Education Co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lights of the Ye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increase in course attendance during each quar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new Microsoft courses added to the curricu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York office reorganized to better serve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Attendance by Reg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a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8,9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iladelph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,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s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,5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dwest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ca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4,6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neapol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,8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. Lou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,4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 Ange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6,5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n Die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,3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l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,7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038120"/>
            <a:ext cx="2133720" cy="916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25% increase in attendance over last ye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95280" y="2341440"/>
          <a:ext cx="6553440" cy="39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41440"/>
                    <a:ext cx="6553440" cy="3907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43570" dir="2700000" blurRad="0" rotWithShape="0">
                      <a:srgbClr val="1c1c1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endance of 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2413080"/>
          <a:ext cx="7772400" cy="375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13080"/>
                    <a:ext cx="7772400" cy="3759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43570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York Off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52560" y="2362320"/>
            <a:ext cx="7238160" cy="3831840"/>
            <a:chOff x="952560" y="2362320"/>
            <a:chExt cx="7238160" cy="3831840"/>
          </a:xfrm>
        </p:grpSpPr>
        <p:cxnSp>
          <p:nvCxnSpPr>
            <p:cNvPr id="115" name="_s12310"/>
            <p:cNvCxnSpPr>
              <a:stCxn id="116" idx="0"/>
              <a:endCxn id="117" idx="2"/>
            </p:cNvCxnSpPr>
            <p:nvPr/>
          </p:nvCxnSpPr>
          <p:spPr>
            <a:xfrm flipV="1">
              <a:off x="698472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2308"/>
            <p:cNvCxnSpPr>
              <a:stCxn id="119" idx="0"/>
              <a:endCxn id="120" idx="2"/>
            </p:cNvCxnSpPr>
            <p:nvPr/>
          </p:nvCxnSpPr>
          <p:spPr>
            <a:xfrm flipV="1">
              <a:off x="376740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2306"/>
            <p:cNvCxnSpPr>
              <a:stCxn id="122" idx="3"/>
              <a:endCxn id="117" idx="2"/>
            </p:cNvCxnSpPr>
            <p:nvPr/>
          </p:nvCxnSpPr>
          <p:spPr>
            <a:xfrm flipV="1">
              <a:off x="658188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2304"/>
            <p:cNvCxnSpPr>
              <a:stCxn id="124" idx="3"/>
              <a:endCxn id="120" idx="2"/>
            </p:cNvCxnSpPr>
            <p:nvPr/>
          </p:nvCxnSpPr>
          <p:spPr>
            <a:xfrm flipV="1">
              <a:off x="336492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2301"/>
            <p:cNvCxnSpPr>
              <a:stCxn id="117" idx="0"/>
              <a:endCxn id="126" idx="2"/>
            </p:cNvCxnSpPr>
            <p:nvPr/>
          </p:nvCxnSpPr>
          <p:spPr>
            <a:xfrm flipV="1" rot="16200000">
              <a:off x="6005520" y="242784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2300"/>
            <p:cNvCxnSpPr>
              <a:stCxn id="120" idx="0"/>
              <a:endCxn id="126" idx="2"/>
            </p:cNvCxnSpPr>
            <p:nvPr/>
          </p:nvCxnSpPr>
          <p:spPr>
            <a:xfrm flipH="1" flipV="1" rot="5400000">
              <a:off x="4397400" y="242820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12296"/>
            <p:cNvSpPr/>
            <p:nvPr/>
          </p:nvSpPr>
          <p:spPr>
            <a:xfrm>
              <a:off x="4169520" y="236232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y Mo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2297"/>
            <p:cNvSpPr/>
            <p:nvPr/>
          </p:nvSpPr>
          <p:spPr>
            <a:xfrm>
              <a:off x="256104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ave Dani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S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2298"/>
            <p:cNvSpPr/>
            <p:nvPr/>
          </p:nvSpPr>
          <p:spPr>
            <a:xfrm>
              <a:off x="577800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Bonnie Br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Mark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2303"/>
            <p:cNvSpPr/>
            <p:nvPr/>
          </p:nvSpPr>
          <p:spPr>
            <a:xfrm>
              <a:off x="95256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ly Sha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es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2305"/>
            <p:cNvSpPr/>
            <p:nvPr/>
          </p:nvSpPr>
          <p:spPr>
            <a:xfrm>
              <a:off x="416952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Willy W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keting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2307"/>
            <p:cNvSpPr/>
            <p:nvPr/>
          </p:nvSpPr>
          <p:spPr>
            <a:xfrm>
              <a:off x="256104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Jerry J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2309"/>
            <p:cNvSpPr/>
            <p:nvPr/>
          </p:nvSpPr>
          <p:spPr>
            <a:xfrm>
              <a:off x="577800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nn Ad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0880" y="685800"/>
            <a:ext cx="458172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als for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 Ye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3150720" y="4046400"/>
            <a:ext cx="4608000" cy="15562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pgraded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dditional Course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ew Training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21:00:22Z</dcterms:created>
  <dc:creator>Jim Hill</dc:creator>
  <dc:description/>
  <dc:language>en-US</dc:language>
  <cp:lastModifiedBy>Jim Hill</cp:lastModifiedBy>
  <dcterms:modified xsi:type="dcterms:W3CDTF">2004-03-01T14:00:07Z</dcterms:modified>
  <cp:revision>35</cp:revision>
  <dc:subject/>
  <dc:title>Annual Report</dc:title>
</cp:coreProperties>
</file>