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8F04-179E-49B7-BB2F-739334241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E37E-9EF2-4D70-A2E7-6C5E48E84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21FC-7693-4DE1-8F00-AF50042D5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2BD1-6684-471D-B441-C1C113961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2BE73-7FAB-4B2E-99C0-7D9D14429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FCD61-3EA4-4C5F-9677-47D0ABD58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8A789-0207-4A69-97C8-E02213329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ADA11-A87C-4CAB-9628-BB29AC8DC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D0A16-53F7-4810-9813-6B1AB58BC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85DA6-F6DD-4B01-91F4-0A3E7E5B2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51C93-C55F-4A05-B434-27E08160F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623B-C69F-4DA3-BB53-4A576C023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A5E3A-31EB-4408-B080-CB0F7B3F1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C09FC-6F4F-4FEE-9F95-7605FE228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E79BA-D2CE-4DFE-9EC1-670749353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2B834-44CF-4F0E-8766-3D32C4E1B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13B23-04AE-4AB0-B6E0-911374B3C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8F70-6C5E-4044-86F8-1C42EA493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DB29-1BBA-4ADB-AFFF-7521AD4F0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527B-5C37-4789-B5A0-D6F9F5CF6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F65E-CC07-4830-BA2D-B65570A8C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07E6-93ED-4933-9E12-F6BC02947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2DC7-8182-4CC7-B5B8-4C1F069D3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0AF3-D25E-418B-910F-29C564320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DF200-CE93-4B69-BD22-95D463E19C8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1676520"/>
            <a:ext cx="9009000" cy="1052280"/>
            <a:chOff x="0" y="1676520"/>
            <a:chExt cx="9009000" cy="105228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1784160"/>
              <a:ext cx="711360" cy="474480"/>
              <a:chOff x="290520" y="1784160"/>
              <a:chExt cx="711360" cy="47448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1784160"/>
                <a:ext cx="43740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178416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206440"/>
              <a:ext cx="737640" cy="474480"/>
              <a:chOff x="414360" y="2206440"/>
              <a:chExt cx="737640" cy="47448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206440"/>
                <a:ext cx="42156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206440"/>
                <a:ext cx="36900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133360"/>
              <a:ext cx="560520" cy="4219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1676520"/>
              <a:ext cx="3168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2497680"/>
              <a:ext cx="8692920" cy="55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9140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B2291-A6D0-4417-BEC7-74003E50E44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9140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BC Computer Education Co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nual Re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5486400" y="3354480"/>
            <a:ext cx="3124080" cy="2970000"/>
          </a:xfrm>
          <a:prstGeom prst="star5">
            <a:avLst/>
          </a:prstGeom>
          <a:solidFill>
            <a:srgbClr val="ff0000"/>
          </a:solidFill>
          <a:ln w="0">
            <a:noFill/>
          </a:ln>
          <a:effectLst>
            <a:outerShdw dist="107932" dir="81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ps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ining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ghlights of the Yea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cord increase in course attendance during each quar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ree new Microsoft courses added to the curricul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w York office reorganized to better serve custom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urse Attendance by Reg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720" y="2057040"/>
            <a:ext cx="777240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Aft>
                <a:spcPts val="3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astern Reg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249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8,93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249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iladelphi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9,35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125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st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,54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Aft>
                <a:spcPts val="3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idwest Reg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249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icag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4,65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249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nneapoli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5,8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125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. Loui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,46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Aft>
                <a:spcPts val="3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estern Reg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249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 Angel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6,5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249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an Dieg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7,39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125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l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2,75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4038120"/>
            <a:ext cx="2133720" cy="9169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 25% increase in attendance over last yea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w Cour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295280" y="2341440"/>
          <a:ext cx="6553440" cy="390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341440"/>
                    <a:ext cx="6553440" cy="390708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43570" dir="2700000" blurRad="0" rotWithShape="0">
                      <a:srgbClr val="1c1c1c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ttendance of New Cour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85800" y="2413080"/>
          <a:ext cx="7772400" cy="3759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413080"/>
                    <a:ext cx="7772400" cy="3759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43570" dir="2700000" blurRad="0" rotWithShape="0">
                      <a:srgbClr val="969696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w York Offi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952560" y="2362320"/>
            <a:ext cx="7238160" cy="3831840"/>
            <a:chOff x="952560" y="2362320"/>
            <a:chExt cx="7238160" cy="3831840"/>
          </a:xfrm>
        </p:grpSpPr>
        <p:cxnSp>
          <p:nvCxnSpPr>
            <p:cNvPr id="115" name="_s12310"/>
            <p:cNvCxnSpPr>
              <a:stCxn id="116" idx="0"/>
              <a:endCxn id="117" idx="2"/>
            </p:cNvCxnSpPr>
            <p:nvPr/>
          </p:nvCxnSpPr>
          <p:spPr>
            <a:xfrm flipV="1">
              <a:off x="6984720" y="4103640"/>
              <a:ext cx="3600" cy="1393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8" name="_s12308"/>
            <p:cNvCxnSpPr>
              <a:stCxn id="119" idx="0"/>
              <a:endCxn id="120" idx="2"/>
            </p:cNvCxnSpPr>
            <p:nvPr/>
          </p:nvCxnSpPr>
          <p:spPr>
            <a:xfrm flipV="1">
              <a:off x="3767400" y="4103640"/>
              <a:ext cx="3600" cy="1393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1" name="_s12306"/>
            <p:cNvCxnSpPr>
              <a:stCxn id="122" idx="3"/>
              <a:endCxn id="117" idx="2"/>
            </p:cNvCxnSpPr>
            <p:nvPr/>
          </p:nvCxnSpPr>
          <p:spPr>
            <a:xfrm flipV="1">
              <a:off x="6581880" y="4103280"/>
              <a:ext cx="402840" cy="697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3" name="_s12304"/>
            <p:cNvCxnSpPr>
              <a:stCxn id="124" idx="3"/>
              <a:endCxn id="120" idx="2"/>
            </p:cNvCxnSpPr>
            <p:nvPr/>
          </p:nvCxnSpPr>
          <p:spPr>
            <a:xfrm flipV="1">
              <a:off x="3364920" y="4103280"/>
              <a:ext cx="402840" cy="697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5" name="_s12301"/>
            <p:cNvCxnSpPr>
              <a:stCxn id="117" idx="0"/>
              <a:endCxn id="126" idx="2"/>
            </p:cNvCxnSpPr>
            <p:nvPr/>
          </p:nvCxnSpPr>
          <p:spPr>
            <a:xfrm flipV="1" rot="16200000">
              <a:off x="6005520" y="2427840"/>
              <a:ext cx="348840" cy="1609200"/>
            </a:xfrm>
            <a:prstGeom prst="bentConnector3">
              <a:avLst>
                <a:gd name="adj1" fmla="val 3047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7" name="_s12300"/>
            <p:cNvCxnSpPr>
              <a:stCxn id="120" idx="0"/>
              <a:endCxn id="126" idx="2"/>
            </p:cNvCxnSpPr>
            <p:nvPr/>
          </p:nvCxnSpPr>
          <p:spPr>
            <a:xfrm flipH="1" flipV="1" rot="5400000">
              <a:off x="4397400" y="2428200"/>
              <a:ext cx="348840" cy="1609200"/>
            </a:xfrm>
            <a:prstGeom prst="bentConnector3">
              <a:avLst>
                <a:gd name="adj1" fmla="val 3047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6" name="_s12296"/>
            <p:cNvSpPr/>
            <p:nvPr/>
          </p:nvSpPr>
          <p:spPr>
            <a:xfrm>
              <a:off x="4169520" y="2362320"/>
              <a:ext cx="2412720" cy="6966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Mary Moo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12297"/>
            <p:cNvSpPr/>
            <p:nvPr/>
          </p:nvSpPr>
          <p:spPr>
            <a:xfrm>
              <a:off x="2561040" y="3407400"/>
              <a:ext cx="2412720" cy="6966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Dave Danie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VP - Sa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12298"/>
            <p:cNvSpPr/>
            <p:nvPr/>
          </p:nvSpPr>
          <p:spPr>
            <a:xfrm>
              <a:off x="5778000" y="3407400"/>
              <a:ext cx="2412720" cy="6966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Bonnie Brow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VP - Marke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12303"/>
            <p:cNvSpPr/>
            <p:nvPr/>
          </p:nvSpPr>
          <p:spPr>
            <a:xfrm>
              <a:off x="952560" y="4452480"/>
              <a:ext cx="2412720" cy="6966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Sally Sha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Sales Asst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12305"/>
            <p:cNvSpPr/>
            <p:nvPr/>
          </p:nvSpPr>
          <p:spPr>
            <a:xfrm>
              <a:off x="4169520" y="4452480"/>
              <a:ext cx="2412720" cy="6966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Willy Wo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Marketing Asst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12307"/>
            <p:cNvSpPr/>
            <p:nvPr/>
          </p:nvSpPr>
          <p:spPr>
            <a:xfrm>
              <a:off x="2561040" y="5497560"/>
              <a:ext cx="2412720" cy="6966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Jerry J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Secreta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12309"/>
            <p:cNvSpPr/>
            <p:nvPr/>
          </p:nvSpPr>
          <p:spPr>
            <a:xfrm>
              <a:off x="5778000" y="5497560"/>
              <a:ext cx="2412720" cy="6966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Ann Ada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Secreta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9T21:00:22Z</dcterms:created>
  <dc:creator>Jim Hill</dc:creator>
  <dc:description/>
  <dc:language>en-US</dc:language>
  <cp:lastModifiedBy>Jim Hill</cp:lastModifiedBy>
  <dcterms:modified xsi:type="dcterms:W3CDTF">2004-03-01T14:00:25Z</dcterms:modified>
  <cp:revision>29</cp:revision>
  <dc:subject/>
  <dc:title>Annual Report</dc:title>
</cp:coreProperties>
</file>