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Jim Hill" initials="JH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<Relationship Id="rId12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4-03-01T08:41:19.093000000" idx="1">
    <p:pos x="10" y="10"/>
    <p:text>Please review this presentation, and make suggested changes.  Thanks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E03D-10A2-4CE3-A48E-BD67C505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6766-B92D-4EC2-8D9F-A968FFC2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0EAF-6DEF-41CC-8689-CBFBA6AF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E042-20B6-4DF5-91CB-1F13D53C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F650-39A2-45FC-8346-CF546562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31AE-52D7-46F8-BF00-7EF42284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A265-5287-46F0-BEFA-1A42B2CF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5483-2783-4787-A983-0BB7CD34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EB4E-CE37-4F89-9D82-4CFB91AC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A774-84C3-49D9-8CC3-4B61F0C4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FD13-4349-45DB-91DE-3AA638DD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65E-2779-465B-AD0A-72A0F133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7E44-AE37-400E-9A38-C4EFAC08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4A03-C60F-41E5-B883-87750359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BF8D-51E6-4AC5-BFE2-D0733896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19F8-88EF-4CA5-ADF3-007BAC3B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686E-E7D9-4986-8C88-F6C0FB47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7EC1-336E-42B4-AE7F-0F518918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B93B-588D-47C1-BF1A-A3C55525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BFA7-4A22-4173-BF5B-3C59C9CD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BF30-B8D6-4B66-BA7E-E108D8DE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5BB2-EF0A-4F4F-9A84-A1AF2E09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C03F-5229-4FF7-93F7-EB04E054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BAC8-130F-47F1-9147-36A7734E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E034-EBD8-41E1-81F1-C0A24671CE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1676520"/>
            <a:ext cx="9009000" cy="1052280"/>
            <a:chOff x="0" y="1676520"/>
            <a:chExt cx="9009000" cy="105228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1784160"/>
              <a:ext cx="711360" cy="474480"/>
              <a:chOff x="290520" y="1784160"/>
              <a:chExt cx="711360" cy="47448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17841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17841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206440"/>
              <a:ext cx="737640" cy="474480"/>
              <a:chOff x="414360" y="2206440"/>
              <a:chExt cx="737640" cy="47448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2064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2064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1333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16765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24976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AFB5-1907-4E0D-824B-CF122CE3B1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C Computer Education Co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nnual Repor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354480"/>
            <a:ext cx="3124080" cy="2970000"/>
          </a:xfrm>
          <a:prstGeom prst="star5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in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ghlights of the Ye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rd increase in course attendance during each quar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new Microsoft courses added to the curricu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York office reorganized to better serve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rse Attendance by Reg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aster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8,9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iladelph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,3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s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,5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dwest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cag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4,6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neapol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,8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. Lou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,4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ster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 Ange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6,5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n Dieg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,3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l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,7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3535920"/>
            <a:ext cx="2133720" cy="1922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 25% increase in attendance over last ye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Cour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95280" y="2341440"/>
          <a:ext cx="6553440" cy="39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41440"/>
                    <a:ext cx="6553440" cy="39070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43570" dir="2700000" blurRad="0" rotWithShape="0">
                      <a:srgbClr val="1c1c1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tendance of New Cour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2413080"/>
          <a:ext cx="7772400" cy="375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13080"/>
                    <a:ext cx="7772400" cy="3759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43570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York Off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52560" y="2362320"/>
            <a:ext cx="7238160" cy="3831840"/>
            <a:chOff x="952560" y="2362320"/>
            <a:chExt cx="7238160" cy="3831840"/>
          </a:xfrm>
        </p:grpSpPr>
        <p:cxnSp>
          <p:nvCxnSpPr>
            <p:cNvPr id="116" name="_s12310"/>
            <p:cNvCxnSpPr>
              <a:stCxn id="117" idx="0"/>
              <a:endCxn id="118" idx="2"/>
            </p:cNvCxnSpPr>
            <p:nvPr/>
          </p:nvCxnSpPr>
          <p:spPr>
            <a:xfrm flipV="1">
              <a:off x="6984720" y="4103640"/>
              <a:ext cx="3600" cy="139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2308"/>
            <p:cNvCxnSpPr>
              <a:stCxn id="120" idx="0"/>
              <a:endCxn id="121" idx="2"/>
            </p:cNvCxnSpPr>
            <p:nvPr/>
          </p:nvCxnSpPr>
          <p:spPr>
            <a:xfrm flipV="1">
              <a:off x="3767400" y="4103640"/>
              <a:ext cx="3600" cy="139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2306"/>
            <p:cNvCxnSpPr>
              <a:stCxn id="123" idx="3"/>
              <a:endCxn id="118" idx="2"/>
            </p:cNvCxnSpPr>
            <p:nvPr/>
          </p:nvCxnSpPr>
          <p:spPr>
            <a:xfrm flipV="1">
              <a:off x="6581880" y="4103280"/>
              <a:ext cx="402840" cy="697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2304"/>
            <p:cNvCxnSpPr>
              <a:stCxn id="125" idx="3"/>
              <a:endCxn id="121" idx="2"/>
            </p:cNvCxnSpPr>
            <p:nvPr/>
          </p:nvCxnSpPr>
          <p:spPr>
            <a:xfrm flipV="1">
              <a:off x="3364920" y="4103280"/>
              <a:ext cx="402840" cy="697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2301"/>
            <p:cNvCxnSpPr>
              <a:stCxn id="118" idx="0"/>
              <a:endCxn id="127" idx="2"/>
            </p:cNvCxnSpPr>
            <p:nvPr/>
          </p:nvCxnSpPr>
          <p:spPr>
            <a:xfrm flipV="1" rot="16200000">
              <a:off x="6005520" y="2427840"/>
              <a:ext cx="348840" cy="1609200"/>
            </a:xfrm>
            <a:prstGeom prst="bentConnector3">
              <a:avLst>
                <a:gd name="adj1" fmla="val 304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2300"/>
            <p:cNvCxnSpPr>
              <a:stCxn id="121" idx="0"/>
              <a:endCxn id="127" idx="2"/>
            </p:cNvCxnSpPr>
            <p:nvPr/>
          </p:nvCxnSpPr>
          <p:spPr>
            <a:xfrm flipH="1" flipV="1" rot="5400000">
              <a:off x="4397400" y="2428200"/>
              <a:ext cx="348840" cy="1609200"/>
            </a:xfrm>
            <a:prstGeom prst="bentConnector3">
              <a:avLst>
                <a:gd name="adj1" fmla="val 304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7" name="_s12296"/>
            <p:cNvSpPr/>
            <p:nvPr/>
          </p:nvSpPr>
          <p:spPr>
            <a:xfrm>
              <a:off x="4169520" y="236232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ry Mo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2297"/>
            <p:cNvSpPr/>
            <p:nvPr/>
          </p:nvSpPr>
          <p:spPr>
            <a:xfrm>
              <a:off x="2561040" y="340740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ave Dani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VP - S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2298"/>
            <p:cNvSpPr/>
            <p:nvPr/>
          </p:nvSpPr>
          <p:spPr>
            <a:xfrm>
              <a:off x="5778000" y="340740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Bonnie Brow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VP - Mark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2303"/>
            <p:cNvSpPr/>
            <p:nvPr/>
          </p:nvSpPr>
          <p:spPr>
            <a:xfrm>
              <a:off x="952560" y="445248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ally Sha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ales Ass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2305"/>
            <p:cNvSpPr/>
            <p:nvPr/>
          </p:nvSpPr>
          <p:spPr>
            <a:xfrm>
              <a:off x="4169520" y="445248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Willy Wo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rketing Ass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2307"/>
            <p:cNvSpPr/>
            <p:nvPr/>
          </p:nvSpPr>
          <p:spPr>
            <a:xfrm>
              <a:off x="2561040" y="549756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Jerry J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ecret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2309"/>
            <p:cNvSpPr/>
            <p:nvPr/>
          </p:nvSpPr>
          <p:spPr>
            <a:xfrm>
              <a:off x="5778000" y="549756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Ann Ad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ecret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0880" y="685800"/>
            <a:ext cx="458172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6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oals for 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w Ye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3150720" y="4046400"/>
            <a:ext cx="4608000" cy="1556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Upgraded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dditional Course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ew Training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21:00:22Z</dcterms:created>
  <dc:creator>Jim Hill</dc:creator>
  <dc:description/>
  <dc:language>en-US</dc:language>
  <cp:lastModifiedBy>Calvin Davis</cp:lastModifiedBy>
  <dcterms:modified xsi:type="dcterms:W3CDTF">2004-03-01T14:00:27Z</dcterms:modified>
  <cp:revision>38</cp:revision>
  <dc:subject/>
  <dc:title>Annual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54608430</vt:r8>
  </property>
</Properties>
</file>