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873-1650-4713-AB10-A1652E8F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D88-4467-4251-B36A-5941CEDE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577-310E-4ED2-9558-6F870AEF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25B-9F0A-4269-825E-67CFD94E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D85F-870F-4EB9-AC15-4DECD942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FEA8-D20F-4949-98AB-22853D15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3692-53C3-4C3C-AEF6-A468305A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22FD-EBEA-470E-BAE6-470E5289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667B-6143-4BB8-96EE-F5AA747F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1ED8-5591-4407-9558-BA4F91E0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DDC1-8259-4100-A7A0-53A67CF2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096-C32E-4482-A7AA-C360959C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E8B7-84A1-47D2-B9D0-705A43BD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964B-3DAA-4843-B3E3-47C8B139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BA61-D6E8-4570-B9C3-8CA93589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BB09-A1FD-4941-8458-47E40548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1D68-C568-4596-B053-A6ACFCF7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598-268E-4BA0-81FA-8BBB273B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4AE-617A-448D-B331-1CA5AC91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C9E-AA45-46E5-99D6-6797369C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5ED-AF2E-42BE-8C98-26A20633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1DD-4729-4F5A-9216-6B636D4D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6D6-0B6C-45EC-94DD-0203E990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2001-3801-4CD7-82DE-5C6D6A33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F9CD-8A20-42F7-910C-462744C7A6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9E26-7291-49E2-BA15-2A494BB4C1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1523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1302"/>
                </a:solidFill>
                <a:latin typeface="Arial"/>
              </a:rPr>
              <a:t>International Computer Co.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3526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wide Sale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International Market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opular Computer Model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87520" y="2316240"/>
          <a:ext cx="7968960" cy="377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316240"/>
                    <a:ext cx="7968960" cy="3779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omputer Sales by Model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3600" y="1981080"/>
          <a:ext cx="7156800" cy="44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981080"/>
                    <a:ext cx="7156800" cy="441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9:09:29Z</dcterms:created>
  <dc:creator>Jim Hill</dc:creator>
  <dc:description/>
  <dc:language>en-US</dc:language>
  <cp:lastModifiedBy>Jim Hill</cp:lastModifiedBy>
  <dcterms:modified xsi:type="dcterms:W3CDTF">2004-03-01T14:00:24Z</dcterms:modified>
  <cp:revision>14</cp:revision>
  <dc:subject/>
  <dc:title>Worldwide Sales Summary</dc:title>
</cp:coreProperties>
</file>