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EDC-0B0D-4412-803F-8A042D82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3D9-FEC8-45CB-8149-82870DA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C1F-11E4-460D-9F36-DC06F4DD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864-C598-4BB9-9097-658A93CC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7AC7-191C-4934-B85B-ED5253AA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EC8C-972B-4128-A589-CB4824F4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DA8-0C86-44C5-8F35-ECA37FF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B93-A9B5-48C1-A2BC-3CCA3519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7764-6498-4F98-8FA0-F60FA4AC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9249-FCF9-4655-A7B8-5D30C44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AF53-7FB0-4BA6-8002-07FC872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EB3-ED20-4B78-B99D-7D062CD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9B33-A5AB-4254-A2AE-6803D8E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B597-F77D-4859-B5AC-7E9D7CF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CCA7-FD19-45E8-8148-B5E2D7D1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B754-8C95-4F25-BEF0-1203ACB5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5E86-3AAC-4046-88D9-A8C47021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DFD-98F3-402A-9891-416934D9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D24-92F7-4A4A-9524-018C6BF3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257-A643-4E75-8CD4-BB059F0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E89-E827-4045-A0AB-FC7001FF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248-DB7B-4C02-910C-9921671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55C-6035-45AF-A311-AF78505F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B54-5A01-4881-8FC2-D7AEB39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6162-1CA8-437F-ABDF-4FFB088EA1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D38-3C8A-4F6B-9852-88F3371EA7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341440"/>
          <a:ext cx="6553440" cy="39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41440"/>
                    <a:ext cx="6553440" cy="3907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43570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endance of New Cour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413080"/>
          <a:ext cx="777240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13080"/>
                    <a:ext cx="7772400" cy="3759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43570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16Z</dcterms:modified>
  <cp:revision>24</cp:revision>
  <dc:subject/>
  <dc:title>Annual Report</dc:title>
</cp:coreProperties>
</file>