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8AD-0B84-4D11-BCFD-8A2EE220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483-7374-4D1A-9575-80D54A61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012-54DA-42A9-A7EC-E694EF69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4F8-747E-4AB9-B8DF-598EC788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1061-F5A8-4FE9-B92C-C0F6734B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0182-E951-4A4E-B42D-1970BAB1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CC3-D043-44CA-B75E-F53BA22C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7BD2-7E58-4751-AFAD-34A8794F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ADEB-7EEE-4492-B01F-ABE03D00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1312-6B79-4FC1-A0FA-8FA2F0FB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76CB-4329-4E5B-9616-02F22A2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FF2-075F-4B71-8269-3DB7BAC0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0A60-9298-4735-8245-71D68E8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B0DC-5C8C-44FA-9EA3-B34D3482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C355-AF8B-4013-AF1B-CB9B9CFE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7C3E-2191-4BF9-9223-84C8B95E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AD06-72DE-4E0A-816E-E583A482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2C5-CBDA-4D36-A761-B09175EE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B8E-5690-45E4-B329-7F2D8355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C88-57E3-4B5F-91F9-708D30DD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98D-6586-4842-B56F-1943ABD0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2E8-4BA1-419A-BC7E-0D80CCCE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685-7D0E-4B15-B40A-6929A706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CCF-3D89-46AC-B6D0-13240B14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9280-45E5-423C-B755-AEFF32DDC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097E-3731-4DC7-B5A9-26E704D648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5" name="_s12310"/>
            <p:cNvCxnSpPr>
              <a:stCxn id="116" idx="0"/>
              <a:endCxn id="117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2308"/>
            <p:cNvCxnSpPr>
              <a:stCxn id="119" idx="0"/>
              <a:endCxn id="120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2306"/>
            <p:cNvCxnSpPr>
              <a:stCxn id="122" idx="3"/>
              <a:endCxn id="117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2304"/>
            <p:cNvCxnSpPr>
              <a:stCxn id="124" idx="3"/>
              <a:endCxn id="120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2301"/>
            <p:cNvCxnSpPr>
              <a:stCxn id="117" idx="0"/>
              <a:endCxn id="126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2300"/>
            <p:cNvCxnSpPr>
              <a:stCxn id="120" idx="0"/>
              <a:endCxn id="126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685800"/>
            <a:ext cx="45817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oals for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Y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3150720" y="4046400"/>
            <a:ext cx="4608000" cy="1556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Upgraded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dditional Course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w Trai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33Z</dcterms:modified>
  <cp:revision>34</cp:revision>
  <dc:subject/>
  <dc:title>Annual Report</dc:title>
</cp:coreProperties>
</file>