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1" name="Sandra Taylor" initials="ST" lastIdx="1" clrIdx="1"/>
  <p:cmAuthor id="0" name="Jim Hill" initials="J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01T08:41:19.093000000" idx="1">
    <p:pos x="10" y="10"/>
    <p:text>Please review this presentation, and make suggested changes.  Thanks.</p:text>
  </p:cm>
  <p:cm authorId="1" dt="2004-03-01T08:50:32.968000000" idx="1">
    <p:pos x="106" y="106"/>
    <p:text>Adding a textured background to slides would enhance the overall presentation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C3E-CE32-4B1C-8717-16A0CFA1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A76-4F5E-4B3D-BEB9-CB94DC1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A0B-B58E-454B-9521-E51F8B56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B28-FFB6-4766-9E7F-25B56098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79DB-91C1-48A5-A0F6-4B7FD66A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9D2D-B699-40DC-A77E-F9BEA78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040D-573C-4233-9AF6-5474B745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E182-BFCA-430C-A9FC-D86E1F79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B984-6A0D-427A-B5CE-04202EEE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6126-DAE0-4A48-9BDB-ED86C151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187B-7653-434E-8360-48E493DE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421-B96D-4832-8550-D5C8F2B8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7CA5-F501-4D07-A5CD-283D66D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D01C-3D5B-4C66-BFB0-988B9D4B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4318-F7CC-4569-9954-B5F1D75B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EB0-79C1-46A0-82C0-910639ED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D1FE-D471-4700-9F5A-04C6AE34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DD2-09E8-4938-BDCA-D3755750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DF5-6B9D-46A6-BCFB-9513E8FC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E90-D2AB-4198-9558-21419A17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560-9D83-4C63-940F-C26662D6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6EB-AD41-4E37-A54E-5F0044A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D8D-9A9B-4409-90D4-5B9C869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3E4-60DB-4E28-A4FC-0DFD507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5D6E-DB4C-40DC-99FC-409DD046EB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24B4-71D3-4C34-AFE8-BB17D34D94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6" name="_s12310"/>
            <p:cNvCxnSpPr>
              <a:stCxn id="117" idx="0"/>
              <a:endCxn id="118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2308"/>
            <p:cNvCxnSpPr>
              <a:stCxn id="120" idx="0"/>
              <a:endCxn id="121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6"/>
            <p:cNvCxnSpPr>
              <a:stCxn id="123" idx="3"/>
              <a:endCxn id="118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4"/>
            <p:cNvCxnSpPr>
              <a:stCxn id="125" idx="3"/>
              <a:endCxn id="121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1"/>
            <p:cNvCxnSpPr>
              <a:stCxn id="118" idx="0"/>
              <a:endCxn id="127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300"/>
            <p:cNvCxnSpPr>
              <a:stCxn id="121" idx="0"/>
              <a:endCxn id="127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Sandra Taylor</cp:lastModifiedBy>
  <dcterms:modified xsi:type="dcterms:W3CDTF">2004-03-01T14:00:49Z</dcterms:modified>
  <cp:revision>38</cp:revision>
  <dc:subject/>
  <dc:title>Annual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54608430</vt:r8>
  </property>
</Properties>
</file>