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3E5-0502-4260-8135-6345D3A1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E2A-F9E9-4EA5-857D-FAC788B7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CAE-430B-4C9A-839E-F5D0A119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1CA-23B0-4B4D-992E-0B968DDE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5906-E3B0-4B77-B95D-C54C8ACF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7F30-764D-48D0-97AF-93D11BA5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AE4E-0378-40A6-AC3D-943A2177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3882-1E12-4B45-98BD-910141BD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65A9-8D2B-44E7-B397-4157D4B4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E33A-DB00-43A2-A758-8561C1C1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02B2-6336-46E3-9D6D-A6237564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498-C491-45FE-BB8A-A65B0A84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4E0A-C3EF-42D1-B8B6-69248340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0E83-CAF0-4E60-87A6-B820D09E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F2A9-B908-49AB-8D92-89FDA9F8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4B58-0596-4FAD-94A4-81B471FE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D963-008D-47DD-9E00-888359B4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6A1-E666-4C06-8FE0-EDBF5ED2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DEF-3E03-4B90-856A-C9713D8F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B3D-FE7F-4EA7-AEEE-91E366C9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A15-EBB8-4A7A-9143-AB254FF7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5AD4-86CA-4FA4-86F7-B9F05132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30B-506F-4FAD-9ACA-F3784335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A3B-DF70-463A-A8CE-2CD4C907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99D1-B6A4-4821-8DE9-7FAA96A8E8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A49D-CE89-4696-9405-4896AB51D1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C Computer Education C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ghlights of the Ye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rd increase in course attendance during each quar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new Microsoft courses added to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York office reorganized to better serve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Attendance by Reg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8,9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adelphi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,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s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,54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west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ca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4,6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neapol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,8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. Lou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4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stern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 Ange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,5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2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 Dieg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,39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86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l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7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038120"/>
            <a:ext cx="2133720" cy="91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25% increase in attendance over last y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21:00:22Z</dcterms:created>
  <dc:creator>Jim Hill</dc:creator>
  <dc:description/>
  <dc:language>en-US</dc:language>
  <cp:lastModifiedBy>Jim Hill</cp:lastModifiedBy>
  <dcterms:modified xsi:type="dcterms:W3CDTF">2004-03-01T14:00:07Z</dcterms:modified>
  <cp:revision>15</cp:revision>
  <dc:subject/>
  <dc:title>Annual Report</dc:title>
</cp:coreProperties>
</file>