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B63-269C-4111-A18B-23F9CEFA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A68-40CD-467A-B0A1-973E8768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34E-BB14-436B-B68D-1146AFD6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B79-6ED0-4C36-A007-11B1EE6C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EE7C-15CB-425C-9044-756DA2E3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4C9A-B2B7-4EB7-B7CF-DFB20FEC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7268-F3DC-4CD1-89FC-15E7B298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FC19-0BB5-41A7-BBB5-E2792C68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1CFE-A666-4A7D-82F2-430DB983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34EA-C7DC-4A1C-833D-57355F2D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3931-F86C-43C3-94CD-7ABC2027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6F0-8427-49F3-A7FB-4230AD30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BCBD-C835-4950-ADE0-28BD7E92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1C48-D3EB-4DD3-A61C-09763070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ED8E-FB43-457F-ADE0-7D977EF7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F7B1-164F-44BA-9DC4-34C95A42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B33F-2A78-42A1-9AD4-E0846178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6C4-499F-4B4C-B0C8-6E927C1E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B9B-DDFB-4BC1-9C31-12CCFC92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564-4506-4D12-9750-6AD3770F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40A-AA00-407F-9A40-203C780D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FAC-94ED-4152-9076-CA8E1E3C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5F9-6C3B-49C9-B89D-91DD8E97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663-8421-4411-8C71-1FCC92BB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CC21-DAFA-40BA-B58F-8191813C99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5750-D6C6-4E2E-88C4-53FE8E002C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York Off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52560" y="2362320"/>
            <a:ext cx="7238160" cy="3831840"/>
            <a:chOff x="952560" y="2362320"/>
            <a:chExt cx="7238160" cy="3831840"/>
          </a:xfrm>
        </p:grpSpPr>
        <p:cxnSp>
          <p:nvCxnSpPr>
            <p:cNvPr id="115" name="_s12310"/>
            <p:cNvCxnSpPr>
              <a:stCxn id="116" idx="0"/>
              <a:endCxn id="117" idx="2"/>
            </p:cNvCxnSpPr>
            <p:nvPr/>
          </p:nvCxnSpPr>
          <p:spPr>
            <a:xfrm flipV="1">
              <a:off x="698472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2308"/>
            <p:cNvCxnSpPr>
              <a:stCxn id="119" idx="0"/>
              <a:endCxn id="120" idx="2"/>
            </p:cNvCxnSpPr>
            <p:nvPr/>
          </p:nvCxnSpPr>
          <p:spPr>
            <a:xfrm flipV="1">
              <a:off x="376740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2306"/>
            <p:cNvCxnSpPr>
              <a:stCxn id="122" idx="3"/>
              <a:endCxn id="117" idx="2"/>
            </p:cNvCxnSpPr>
            <p:nvPr/>
          </p:nvCxnSpPr>
          <p:spPr>
            <a:xfrm flipV="1">
              <a:off x="658188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2304"/>
            <p:cNvCxnSpPr>
              <a:stCxn id="124" idx="3"/>
              <a:endCxn id="120" idx="2"/>
            </p:cNvCxnSpPr>
            <p:nvPr/>
          </p:nvCxnSpPr>
          <p:spPr>
            <a:xfrm flipV="1">
              <a:off x="336492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2301"/>
            <p:cNvCxnSpPr>
              <a:stCxn id="117" idx="0"/>
              <a:endCxn id="126" idx="2"/>
            </p:cNvCxnSpPr>
            <p:nvPr/>
          </p:nvCxnSpPr>
          <p:spPr>
            <a:xfrm flipV="1" rot="16200000">
              <a:off x="6005520" y="242784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2300"/>
            <p:cNvCxnSpPr>
              <a:stCxn id="120" idx="0"/>
              <a:endCxn id="126" idx="2"/>
            </p:cNvCxnSpPr>
            <p:nvPr/>
          </p:nvCxnSpPr>
          <p:spPr>
            <a:xfrm flipH="1" flipV="1" rot="5400000">
              <a:off x="4397400" y="242820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12296"/>
            <p:cNvSpPr/>
            <p:nvPr/>
          </p:nvSpPr>
          <p:spPr>
            <a:xfrm>
              <a:off x="4169520" y="236232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y Mo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297"/>
            <p:cNvSpPr/>
            <p:nvPr/>
          </p:nvSpPr>
          <p:spPr>
            <a:xfrm>
              <a:off x="256104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ave Dani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S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298"/>
            <p:cNvSpPr/>
            <p:nvPr/>
          </p:nvSpPr>
          <p:spPr>
            <a:xfrm>
              <a:off x="577800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onnie Br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2303"/>
            <p:cNvSpPr/>
            <p:nvPr/>
          </p:nvSpPr>
          <p:spPr>
            <a:xfrm>
              <a:off x="95256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ly Sh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es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2305"/>
            <p:cNvSpPr/>
            <p:nvPr/>
          </p:nvSpPr>
          <p:spPr>
            <a:xfrm>
              <a:off x="416952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Willy W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keting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2307"/>
            <p:cNvSpPr/>
            <p:nvPr/>
          </p:nvSpPr>
          <p:spPr>
            <a:xfrm>
              <a:off x="256104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Jerry J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2309"/>
            <p:cNvSpPr/>
            <p:nvPr/>
          </p:nvSpPr>
          <p:spPr>
            <a:xfrm>
              <a:off x="577800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n Ad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880" y="685800"/>
            <a:ext cx="45817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als for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Y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3150720" y="4046400"/>
            <a:ext cx="4608000" cy="1556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graded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dditional Cours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w Training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Jim Hill</cp:lastModifiedBy>
  <dcterms:modified xsi:type="dcterms:W3CDTF">2004-03-01T14:00:46Z</dcterms:modified>
  <cp:revision>35</cp:revision>
  <dc:subject/>
  <dc:title>ABC Computer Education Co.</dc:title>
</cp:coreProperties>
</file>