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rawing tools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aw and reshape objec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ork with compound lines and duplication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ign, distribute, group, and rotate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shaping freeform lines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shape a freeform line by dragging a control handle in any direc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d vertex points to gain finer control of eccentricity hand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add a vertex point to a freeform line, press Ctrl and click where you want to place the poin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ther compound lin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compound lines by using the Line, Arc, and Pencil tool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necting line segments is like completing a connect-the-dots pict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encil tool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compound lines by using the Pencil tool and changing directions as you dra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cts as both a Line tool and an Arc too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bject duplicatio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uplicate objects by using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Copy and Paste commands on the Edit men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mouse and keyboard to drag a duplicate to a new locatio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trl+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Shift key to maintain the alignment of shapes when you are duplicating by dragg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repeat key and duplication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4 acts as a repeat key in Vis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not only get a duplicate of the object, but you also duplicate the distance you dragged the duplica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Drawing objec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Additional drawing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diting objec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bject alignment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 the object that will act as the reference object for the align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 the objects you want to align with the reference o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Shape, Align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he button for the desired align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bject distributio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Distribute Shapes dialog box to distribute objects vertically or horizontall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wo ways to open this dialog box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e the Shape menu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 the Action toolbar, clic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ActivityC2-7cUnit2" descr=""/>
          <p:cNvPicPr/>
          <p:nvPr/>
        </p:nvPicPr>
        <p:blipFill>
          <a:blip r:embed="rId2"/>
          <a:stretch/>
        </p:blipFill>
        <p:spPr>
          <a:xfrm>
            <a:off x="6618240" y="3592440"/>
            <a:ext cx="703440" cy="64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nected drawing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avoid staggered shapes, plan the space in your drawing before creating 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Align command as you place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hape group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roup shapes to avoid staggered shape arrange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rouping holds objects together and helps them to act as o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rawing objec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Additional drawing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Editing objec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bject rotation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otate objects around a pivot point by using special rotate hand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pivot point appears in the middle of the selected objec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rotate the selected object, drag the round Rotate Shape tool at the top of the o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draw and reshape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orked with compound lines and duplication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igned, distributed, grouped, and rotated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rawing object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io provides several drawing tools you can use to draw almost any type of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modify shapes by using the control handles that appear on the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trol handles help you to reshape and resize a drawing o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Ellipse tool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draw an ellipse, drag the Ellipse tool diagonall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draw a circle, press and hold Shift while dragging diagonall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pen shap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 shapes are lines, arcs, and curved li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create an open shape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the shap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Reshape it, if necessary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use Shift to constrain the Line tool to draw in 45-degree incre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imple reshap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you select an arc with the Pointer tool, a control handle appears in the middle of the ar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trol handles help you reshape an ar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reshape, drag the control handle to create the new curv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vanced reshap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Pencil tool to completely reshape simple lines and cur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you use the Pencil tool and click a line or an arc, a round control handle appears in the cen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control handle has eccentricity handles that are used to refine the curvat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Drawing objec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ditional drawing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Editing objec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Freeform tool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elps you draw lines and cur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s exactly what you draw as you move the poin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builder</cp:lastModifiedBy>
  <dcterms:modified xsi:type="dcterms:W3CDTF">2004-03-22T10:09:30Z</dcterms:modified>
  <cp:revision>29</cp:revision>
  <dc:subject/>
  <dc:title>Exploring the Visio environment </dc:title>
</cp:coreProperties>
</file>