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orking with pag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t file properties for a new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 with detail pages and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Print Preview mode, and print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ckground page edit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edit a background page the same way you edit any other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raphic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o to the page on which you want to add the graphi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Insert, Picture, From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vigate to the location of the graphic file you want to u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file and click Op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ize and place the graphic if necessary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Working with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Working with link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ail pag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n a drawing does not fit on one page, you can create additional pages containing more details and link these pages to the main pag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 link pages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019880" indent="-45252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lect the shape you want to use as the activation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19880" indent="-45252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ight-click and choose Format, Behavi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19880" indent="-45252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o to the Double-Click tab of the Behavior dialog box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19880" indent="-45252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lect Go to page and choose a page from the lis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19880" indent="-45252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Hyperlinks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yperlinks connect a shape or page to a drawing, another document, or an Internet addres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reate a hyperlink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lect the shape you want to use as the activation poi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hoose Insert, Hyperlink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the Address box, enter the Internet address or the path of the file to which you want to link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ultiple files and link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lso link multiple files to a singl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is useful if there are several files that are related to one shape in a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inking to other file ty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addition to linking drawing files, you can also link to other file types such as an Excel spreadshee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specify a location to go to when the linked file is ope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Working with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orking with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Printing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int Preview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int Preview shows how your diagram will appear when print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add and examine headers and footers while in Print Previe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int a diagram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print a diagram, click the Print button on the Standard toolb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you need to print multiple copies or change the printer to which you are sending the print job, use the Print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and setting up a new draw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Working with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orking with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set file properties for a new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ed with detail pages and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Print Preview mode and printed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le properti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clude attributes such as the location and creation date of the file, the name of the author, and the subject of the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fied by using the Propertie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perties dialog box has three tab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nera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tent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age and printer setup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ge and printer settings are defined in the Page Setup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dialog box has six tab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nt Setup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ge Siz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rawing Sca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ge Properti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yout and Rout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adow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age properti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Page Properties tab of the Page Setup dialog box provides you with options to specify page typ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Visio, there are two types of pages, foreground pages and background pa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eground pages are the ones you draw 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ackground pages are used to hold and display elements, such as page numbers and borders, that you might want to appear across one or more foreground pag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Working with background pag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orking with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ckground pag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have more than one background page in a file, but you can apply only one background page to a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background pages to create headers and footers in your draw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aders appear at the top of the page while footers appear at the bottom of the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elds and page break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elds are placeholders that contain information such as the current date, page numbers, and ti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 the field data changes, it is automatically updated in the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isplaying page breaks helps you determine where to place shapes on a divided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ge breaks are determined by the current printer setu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ckground page applic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have multiple background pages in a single drawing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must manually apply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ce you apply a background page, each new foreground page added to the drawing will use this background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1:39:04Z</dcterms:modified>
  <cp:revision>17</cp:revision>
  <dc:subject/>
  <dc:title>Exploring the Visio environment </dc:title>
</cp:coreProperties>
</file>