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ploring the Visio environment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a new file and use interactive Hel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vigate in a Visio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ipulate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, scale, and resize objec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View setting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change the view settings by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ing commands on the View men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ing the Zoom box on the Standard toolba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ing mouse and keyboard shortcuts to zoom in and out of drawing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naming page tab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ght-click the page tab you want to rena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oose Rename from the shortcut menu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ype a new name for the page ta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ess En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Visio bas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Navigating in Vis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encil overvie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Working with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ultiple stencil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f you need to add shapes that are not contained in the open stencils, you can open additional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title bars for the open stencils are stacked together in the Shapes windo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tencil location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y default, stencils are located to the left of the Visio workspac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y can remain in a fixed location (docked) or float within the work area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ile floating, you can move them in the work area and resize the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Visio bas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Navigating in Vis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Stencil overvie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D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orking with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electing and moving an object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Pointer tool to select an objec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selection handles to resize an objec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ve an object by dragging it to a new location in the draw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electing multiple object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select multiple objects by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ing a selection ne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ing the Shift key along with the mous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ing the Multiple Select tool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dvanced selection option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ess Shift and click an object to select each object separatel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method is helpful when the order in which you select the objects is importan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caling and resizing basic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caling maintains the height-to-width proportions for a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e any corner handle of the selected object to scale an objec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sizing changes the size without maintaining the proportions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e the center selection handles to resize an objec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isio bas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Navigating in Vis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Stencil overvie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Working with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aving a file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le menu command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av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ave A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Save command to save an existing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Save As command to save the open file with a new na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osing files and Visio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close a file, choose File, Clo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close Visio, choose File, Exi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create a new file and use interactive Hel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navigate in a Visio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manipulate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select, scale, and resize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Visio overview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vector-based illustration tool used for creating graph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basic drawing object in a Visio drawing is a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hapes are grouped together in stencil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emplate overview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emplates consist of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One or more stencils containing master shapes used in a specific type of drawing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A basic page layou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Line, text, and fill styl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pecialized toolbars that provide drawing-specific comma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work area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69920" y="1255680"/>
            <a:ext cx="7023240" cy="5079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76480" y="5900760"/>
            <a:ext cx="563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age ta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15760" y="59007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30760" y="19796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olba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3440" y="19796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3880" y="6012000"/>
            <a:ext cx="2809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0080" y="2711520"/>
            <a:ext cx="227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3200" y="4205160"/>
            <a:ext cx="61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rawing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2480" y="4390920"/>
            <a:ext cx="31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9480" y="439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3040" y="301608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ul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92000" y="30160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900080" y="3713040"/>
            <a:ext cx="1849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0080" y="2711520"/>
            <a:ext cx="1800" cy="10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746000" y="3092400"/>
            <a:ext cx="153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0080" y="1733400"/>
            <a:ext cx="1800" cy="739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899720" y="1733400"/>
            <a:ext cx="954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899720" y="2473200"/>
            <a:ext cx="954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46000" y="2066760"/>
            <a:ext cx="153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93880" y="4416480"/>
            <a:ext cx="3689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Visio Help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isio provides interactive information in the form of 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creenTips - Appear when you point to a button on a toolbar or when you point to a shape in a stenci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atus bar - Gives you information about a shape as you place it into the draw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tailed Help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Help system is an interactive HTML window that blends traditional Help dialog boxes with the look of an HTML browser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Visio bas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vigating in Vis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Stencil overvie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Working with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Visio file typ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8120" y="1473120"/>
          <a:ext cx="4305240" cy="3578040"/>
        </p:xfrm>
        <a:graphic>
          <a:graphicData uri="http://schemas.openxmlformats.org/drawingml/2006/table">
            <a:tbl>
              <a:tblPr/>
              <a:tblGrid>
                <a:gridCol w="2006280"/>
                <a:gridCol w="2298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ile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xt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Draw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.vsd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St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.v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Temp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.v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builder</cp:lastModifiedBy>
  <dcterms:modified xsi:type="dcterms:W3CDTF">2004-03-15T11:28:25Z</dcterms:modified>
  <cp:revision>48</cp:revision>
  <dc:subject/>
  <dc:title>Exploring the Visio environment </dc:title>
</cp:coreProperties>
</file>