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251"/>
          <a:stretch/>
        </p:blipFill>
        <p:spPr>
          <a:xfrm>
            <a:off x="0" y="584280"/>
            <a:ext cx="1069920" cy="627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52280" y="961920"/>
            <a:ext cx="72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Business diagram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block diagrams by using 2-D and 3-D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workflow diagrams and cross-functional flowcha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pare organization charts and create an organization chart by importing da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1001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Manage projects by using timelines, PERT charts, and Gantt chart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The Compare Organization Data dialog box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17760" y="1727280"/>
            <a:ext cx="54212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ays of comparing an organization char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pare a new version of an organization chart with an older version of the organization cha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pare an older version of an organization chart with a newer versi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mparing an organization char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Shapes, Organization Chart, Organization Chart Shape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new organization chart by using stencil shap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Organization Chart, Compare Organization Data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Browse to the path of the older version of the char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appropriate option from Compare typ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Report type, select Sort by chang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Importing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 organization chart dat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Organization Chart, Organization Chart Wizar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Information that's already stored in a file or a databas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the type of database and specify the location of the data fil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the columns in the data file that define the organizational hierarch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the data you want to display in the organization chart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how you want the organizational hierarchy to be display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loc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Flow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Organization 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 Project management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timelin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Project Schedule, Timelin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the required shapes to the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the time period and the sca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the required milestone shape to the timel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milestone settin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the required interval shape to the timel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interval setting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 PERT chart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9556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V2003AdvU03ex1-15" descr=""/>
          <p:cNvPicPr/>
          <p:nvPr/>
        </p:nvPicPr>
        <p:blipFill>
          <a:blip r:embed="rId2"/>
          <a:stretch/>
        </p:blipFill>
        <p:spPr>
          <a:xfrm>
            <a:off x="1317600" y="1619280"/>
            <a:ext cx="74772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PERT chart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Project Schedule, PERT Char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the required Pert shape to the drawing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ype the name of the task in the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connect the shapes, click and drag the control handle of the second shape to the connection point of the first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plete the remaining project design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Gantt Chart Options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9556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3844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V2003AdvU03ex1-16" descr=""/>
          <p:cNvPicPr/>
          <p:nvPr/>
        </p:nvPicPr>
        <p:blipFill>
          <a:blip r:embed="rId2"/>
          <a:stretch/>
        </p:blipFill>
        <p:spPr>
          <a:xfrm>
            <a:off x="1990800" y="1905120"/>
            <a:ext cx="6453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Gantt chart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Project Schedule, Gantt Ch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project settin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Replace the default name and date with task detai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Gantt Chart Shapes stencil, drag the milestone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the milestone detai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link tasks, select two tasks and click the Link Tasks button on the Gantt Chart toolbar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Block diagram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Flow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Organization 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Project management diagram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block diagrams by using 2-D and 3-D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workflow diagrams and cross-functional flowcha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pared organization charts and created an organization chart by importing da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Managed projects by using timelines, PERT charts, and Gantt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block diagram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lockDiagram2" descr=""/>
          <p:cNvPicPr/>
          <p:nvPr/>
        </p:nvPicPr>
        <p:blipFill>
          <a:blip r:embed="rId2"/>
          <a:stretch/>
        </p:blipFill>
        <p:spPr>
          <a:xfrm>
            <a:off x="2940120" y="1312920"/>
            <a:ext cx="3798720" cy="44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block diag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Block Diagram, Block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Shapes window, drag the shapes from the Blocks or Blocks Raised stencil to the documen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Sav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loc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Flowcha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Organization char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Project management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 work flow diagram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V23" descr=""/>
          <p:cNvPicPr/>
          <p:nvPr/>
        </p:nvPicPr>
        <p:blipFill>
          <a:blip r:embed="rId2"/>
          <a:stretch/>
        </p:blipFill>
        <p:spPr>
          <a:xfrm>
            <a:off x="2433600" y="1474920"/>
            <a:ext cx="4848120" cy="399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work flow 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Business Process, Work Flow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Work Flow Diagram Shapes stencil, drag the shapes to the drawing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connect the shapes, select the Connector tool, and click and drag from the connection point of a shape to the connection point of another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The Cross-functional flowchart dialog box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U3G8" descr=""/>
          <p:cNvPicPr/>
          <p:nvPr/>
        </p:nvPicPr>
        <p:blipFill>
          <a:blip r:embed="rId2"/>
          <a:stretch/>
        </p:blipFill>
        <p:spPr>
          <a:xfrm>
            <a:off x="2994120" y="1187280"/>
            <a:ext cx="375264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loc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Flowcha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C: Organization cha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Project management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Catherine M Albano</cp:lastModifiedBy>
  <dcterms:modified xsi:type="dcterms:W3CDTF">2005-02-17T22:24:48Z</dcterms:modified>
  <cp:revision>96</cp:revision>
  <dc:subject/>
  <dc:title>PowerPoint Presentation</dc:title>
</cp:coreProperties>
</file>