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661-D073-4380-86BB-122D78C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72F-96CE-46C4-B468-599968ED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54E-9003-4F46-8E40-E8058609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307-19CA-4F18-8E68-099BFA37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BC4-D0A5-4DFA-9385-6CF5EBB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FF6-816F-48D0-9BC3-8C8A0455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28C-3FCC-44C9-9231-891D167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C45-4D7C-4E20-9B00-06B8DBC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528-171B-4B91-A6FA-1913469F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9AE-7D25-4513-B661-12A5E66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D86-143A-4A58-8A99-808640C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C5A-2AFD-41A6-B8BA-346FF86A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C04-9A5D-4382-9D74-3F96FAF14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ur sp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604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years we've been involved in food service and manufacturing where the finished product must be consistent week in and week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l major food manufacturers buy their spices from premier impor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do w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ery Outlander spice is of premium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tlander spices not only excel in quality, flavor, and freshness but also are priced much lower than spices in retai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6:30:27Z</dcterms:created>
  <dc:creator>Kwils</dc:creator>
  <dc:description/>
  <dc:language>en-US</dc:language>
  <cp:lastModifiedBy>Kwils</cp:lastModifiedBy>
  <dcterms:modified xsi:type="dcterms:W3CDTF">2004-12-19T16:34:32Z</dcterms:modified>
  <cp:revision>3</cp:revision>
  <dc:subject/>
  <dc:title>Outlander Spices</dc:title>
</cp:coreProperties>
</file>