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-36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0" b="251"/>
          <a:stretch/>
        </p:blipFill>
        <p:spPr>
          <a:xfrm>
            <a:off x="0" y="584280"/>
            <a:ext cx="1069920" cy="627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152280" y="961920"/>
            <a:ext cx="729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I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33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Templat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template with a background, stencils, and sty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custom template and a drawing based on a custom template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drawing based on a templat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New, Choose Drawing Typ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New Drawing task pane, under Templates, click the On my computer link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Browse Templates dialog box, navigate to the location where you saved the custom templat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template on which you want to base your new drawing and click Open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If necessary, make changes to the drawing and save the drawing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a template with a background, stencils, and sty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lnSpc>
                <a:spcPct val="80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d a custom template and a drawing based on a custom templa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emplates and styl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opic B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Custom templates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ding a background pag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dd a new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Page Setup to open the Page Setup dialog box, and select Background as the page typ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fy the name, the drawing scale, and the page size of the background pag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a shape from the Backgrounds stencil to the background page or create a background by using the shapes in the Shapes window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Define Styles dialog box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4" descr=""/>
          <p:cNvPicPr/>
          <p:nvPr/>
        </p:nvPicPr>
        <p:blipFill>
          <a:blip r:embed="rId2"/>
          <a:stretch/>
        </p:blipFill>
        <p:spPr>
          <a:xfrm>
            <a:off x="2976480" y="1243080"/>
            <a:ext cx="420228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custom styl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or draw the shape to which you want to apply a new styl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ormat, Define Style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Under Style, from the Name list, select &lt;New Style&gt;, and specify a name for the new style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rom the Based on list, select an existing style on which you want to base this new sty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Under Includes, select the attributes you want to include in the new styl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ontinue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custom style, continued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Under Change, click the attributes and specify their settings in the corresponding dialog box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Apply to add the new style and apply the style to the selected shapes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diting styl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 major advantage that styles offer is the ability to control formatting by using the Define Styles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f you want to change a format, you can redefine the style and all shapes that use that style are updat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Templates and styl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Custom templa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7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Save a custom template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ile, Save A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Save As dialog box, specify the location where you want to save the templat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File name box, specify a name for the templat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the Save drop-down arrow and verify that the Workspace option is selected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Sav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7:50:32Z</dcterms:created>
  <dc:creator>Dan Quackenbush</dc:creator>
  <dc:description/>
  <dc:language>en-US</dc:language>
  <cp:lastModifiedBy>Catherine M Albano</cp:lastModifiedBy>
  <dcterms:modified xsi:type="dcterms:W3CDTF">2005-02-17T22:36:23Z</dcterms:modified>
  <cp:revision>116</cp:revision>
  <dc:subject/>
  <dc:title>PowerPoint Presentation</dc:title>
</cp:coreProperties>
</file>