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33720" y="-36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rcRect l="0" t="0" r="0" b="251"/>
          <a:stretch/>
        </p:blipFill>
        <p:spPr>
          <a:xfrm>
            <a:off x="0" y="584280"/>
            <a:ext cx="1069920" cy="6273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66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152280" y="961920"/>
            <a:ext cx="7290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rse I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3372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Integrating Visio with other programs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it objectiv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Embed a Visio drawing, link a drawing, and use the drag-and-drop feature in Microsoft Word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Insert drawings in Microsoft PowerPoint and link presentations to Visio fil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reate calendars in Visio and import calendar data from Microsoft Outlook to a Visio calendar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et links and convert a drawing to a Web pag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ypes of calendar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One-day or multiple-day calendar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One-week or multiple-week calendar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One-month or multiple-month calendar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One-year or multiple-year calendar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reate a one-day calenda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File, New, Project Schedule, Calendar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From the Calendar Shapes stencil, drag the Day shape to the drawing pag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In the Configure dialog box, specify the required calendar options, and then click OK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One-day and multiple-day calendar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" name="OneDayCalendar" descr=""/>
          <p:cNvPicPr/>
          <p:nvPr/>
        </p:nvPicPr>
        <p:blipFill>
          <a:blip r:embed="rId2"/>
          <a:stretch/>
        </p:blipFill>
        <p:spPr>
          <a:xfrm>
            <a:off x="3659040" y="1138320"/>
            <a:ext cx="2687760" cy="2624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" name="MultiDayCalendar" descr=""/>
          <p:cNvPicPr/>
          <p:nvPr/>
        </p:nvPicPr>
        <p:blipFill>
          <a:blip r:embed="rId3"/>
          <a:stretch/>
        </p:blipFill>
        <p:spPr>
          <a:xfrm>
            <a:off x="2614680" y="4006800"/>
            <a:ext cx="4645080" cy="25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Import calendar data from Outlook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Install Microsoft Outlook 2000 or a later version to use the Import Outlook Data Wizard command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By using the Import Outlook Data Wizard, you can filter appointments based on date and time ranges and subjec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After importing data from Outlook, you can customize the data in Visio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D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Integration with Microsoft Word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B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Integration with PowerPoint presentations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C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Integration with Microsoft Outlook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D: Working with Web-enabling featur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Link a Visio drawing to another file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Select the shape or open the page in which you need to create links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Insert, Hyperlinks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In the Address box, click Browse, and then click Local File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Select the required file, and then click Open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In the Sub-address box, click Browse, and then specify the name for the page or shape and the required zoom level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Click Ope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Click OK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onvert a drawing to a Web page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File, Save as Web Pag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In the Save As dialog box, browse to the folder where you want to save the fil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In the File name box, specify a name for the Web page fil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lick Change Title. In the Set Page Title dialog box, specify a title for the Web pag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lick OK, and then click Sav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Unit summary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Embedded a Visio drawing, linked a drawing, and used the drag-and-drop feature in Microsoft Word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Inserted drawings in Microsoft PowerPoint and linked presentations to Visio fi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reated calendars in Visio and imported calendar data from Microsoft Outlook to a Visio calenda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et links and converted a drawing to a Web pag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A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A: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Integration with Microsoft Word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B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Integration with PowerPoint presentations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C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Integration with Microsoft Outlook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D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Working with Web-enabling featur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Embed an existing file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lick the document where you want to place the embedded object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Insert, Object to open the Object dialog box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lick the Create from File tab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In the File name box, enter the name of the file you want to embed, or click Browse to specify the location of the fil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lick OK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Link a drawing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 link an object from an existing file, select Paste Link in the Paste Special dialog box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The drag-and-drop feature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When you drag multiple shapes from a drawing page to a Word document, they are treated as one object in the Word document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B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A: Integration with Microsoft Word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B: Integration with PowerPoint presentations 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C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Integration with Microsoft Outlook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D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Working with Web-enabling featur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Insert a Visio drawing in PowerPoint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Click in the presentation where you want to place the embedded object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Insert, Object and select Microsoft Visio Drawing as the object type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Check Display as ico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Select Create from fil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In the File name box, specify the location of the file containing the material you want to embedded, or click Browse to select the file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Click OK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Times New Roman"/>
              </a:rPr>
              <a:t>Link a presentation to a Visio file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Insert, Object and select Microsoft PowerPoint Presentation as the object typ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eck Display as ic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elect Create from fi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In the File name box, specify the location of the file you want to insert, or click Browse to select the fil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eck Link to fi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lick OK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C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Integration with Microsoft Word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B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Integration with PowerPoint presentations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C: Integration with Microsoft Outlook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D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Working with Web-enabling featur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8T17:50:32Z</dcterms:created>
  <dc:creator>Dan Quackenbush</dc:creator>
  <dc:description/>
  <dc:language>en-US</dc:language>
  <cp:lastModifiedBy>Catherine M Albano</cp:lastModifiedBy>
  <dcterms:modified xsi:type="dcterms:W3CDTF">2005-02-17T22:41:12Z</dcterms:modified>
  <cp:revision>139</cp:revision>
  <dc:subject/>
  <dc:title>PowerPoint Presentation</dc:title>
</cp:coreProperties>
</file>