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rcRect l="0" t="0" r="0" b="251"/>
          <a:stretch/>
        </p:blipFill>
        <p:spPr>
          <a:xfrm>
            <a:off x="0" y="584280"/>
            <a:ext cx="1069920" cy="627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52280" y="961920"/>
            <a:ext cx="729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Times New Roman"/>
              </a:rPr>
              <a:t>Advanced custom shape design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complex shapes and define formulas and functions for a shap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dd behaviors and events to a shape and protect a shap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and modify master shapes and stencil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Special drawing operation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Shape behavior and event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C: Custom stenci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Creating a custom stencil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Shapes, New Stencil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n the Standard toolbar, click Save to open the Save As dialog box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Navigate to the folder where you want to store the stencil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pecify the name for the stencil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Sav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Edit shape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Right-click the master shap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Edit Master, Edit Master Shap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Make the modifications to the stencil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e Master Properties dialog box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0" name="new3" descr=""/>
          <p:cNvPicPr/>
          <p:nvPr/>
        </p:nvPicPr>
        <p:blipFill>
          <a:blip r:embed="rId2"/>
          <a:stretch/>
        </p:blipFill>
        <p:spPr>
          <a:xfrm>
            <a:off x="2251080" y="858960"/>
            <a:ext cx="557532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ave stencil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 save a stencil, click the Save Stencil icon on the right side of the Stencil title bar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f you want to display the new stencil on the menu, save the stencil in the My Shapes fold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d complex shapes and defined formulas and functions for a shap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dded behaviors and events to a shape and protected a shap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d and modified master shapes and stenci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A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pecial drawing operation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Shape behavior and event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Custom stencil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peration command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990720"/>
            <a:ext cx="7620120" cy="56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8640" indent="-458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ombin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ra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ters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ub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r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ff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Fit Curv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he ShapeSheet window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03520" y="1976400"/>
            <a:ext cx="6886440" cy="290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dding a functio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a shape in the drawing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Window, Show ShapeSheet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uble-click the cell where you want to add a function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Insert, Function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the required function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and click O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Enter the necessary value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Formula bar, press Enter to accept the value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A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Special drawing operation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hape behavior and event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Custom stenci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dding a pre-defined actio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a shape and open the ShapeSheet window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Insert, Section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Action and click OK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Actions section, select a cell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Edit, Action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Menu box, enter the name of the menu option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the action to be performed and click OK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Specify a behavio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 change the default behavior for the double-click action on a shap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the shap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ormat, Behavio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110664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the Double-Click tab and check the action to be triggered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The Protection dialog box 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U2G15" descr=""/>
          <p:cNvPicPr/>
          <p:nvPr/>
        </p:nvPicPr>
        <p:blipFill>
          <a:blip r:embed="rId2"/>
          <a:stretch/>
        </p:blipFill>
        <p:spPr>
          <a:xfrm>
            <a:off x="2382840" y="1544760"/>
            <a:ext cx="543240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7:50:32Z</dcterms:created>
  <dc:creator>Dan Quackenbush</dc:creator>
  <dc:description/>
  <dc:language>en-US</dc:language>
  <cp:lastModifiedBy>Catherine M Albano</cp:lastModifiedBy>
  <dcterms:modified xsi:type="dcterms:W3CDTF">2005-02-17T22:04:19Z</dcterms:modified>
  <cp:revision>90</cp:revision>
  <dc:subject/>
  <dc:title>PowerPoint Presentation</dc:title>
</cp:coreProperties>
</file>