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ing technical layout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nd assign shapes to a layer, customize a layer, and add custom shapes to a laye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se a predefined scale, change the drawing scale, and add and adjust shapes manually and by using the Custom Properties dialog box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ange the size and position settings of a shape and create duplicate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dd and adjust dimension connectors, add dimension lines automatically, set display units, and calculate and adjust the area of a room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Lay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Drawing sc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C: Precision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Dimension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ize &amp; Position window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U1G20" descr=""/>
          <p:cNvPicPr/>
          <p:nvPr/>
        </p:nvPicPr>
        <p:blipFill>
          <a:blip r:embed="rId2"/>
          <a:stretch/>
        </p:blipFill>
        <p:spPr>
          <a:xfrm>
            <a:off x="3309840" y="1839960"/>
            <a:ext cx="28702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duplicat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he down arrow next to the Pointer too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Area Select or Lasso Selec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and drag around all the shapes to create a selection net, and then release the mous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ss the Ctrl key and drag to the desired locati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Lay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Drawing sc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Precision techniq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D: Dimension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 dimension connector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oose File, Shapes, Visio Extras, Dimensioning-Architectural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r, right-click a shape and choose Add a Dimension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The Custom Properties dialog box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U1G23" descr=""/>
          <p:cNvPicPr/>
          <p:nvPr/>
        </p:nvPicPr>
        <p:blipFill>
          <a:blip r:embed="rId2"/>
          <a:stretch/>
        </p:blipFill>
        <p:spPr>
          <a:xfrm>
            <a:off x="1974960" y="1654200"/>
            <a:ext cx="58323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rea measurement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ea measurements provide the total square foot area in a room or a closed shape, such as rectang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the Space shape to calculate space are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and assigned shapes to a layer, customized a layer, and added custom shapes to a layer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sed a predefined scale, changed the drawing scale, and added and adjusted shapes manually and by using the Custom Properties dialog box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anged the size and position settings of a shape and created duplicate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dded and adjusted dimension connectors, added dimension lines automatically, set display units, and calculated and adjusted the area of a room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Laye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Drawing sca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Precision techniq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Dimension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Layer Properties dialog box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U1G1" descr=""/>
          <p:cNvPicPr/>
          <p:nvPr/>
        </p:nvPicPr>
        <p:blipFill>
          <a:blip r:embed="rId2"/>
          <a:stretch/>
        </p:blipFill>
        <p:spPr>
          <a:xfrm>
            <a:off x="2278080" y="1325520"/>
            <a:ext cx="60339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ustomize a laye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y setting or modifying the properties for a lay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ocking a lay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ssigning a color to a layer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trol shape placemen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designate a layer for the shapes that you create by using the Active property in the Layer Properties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You can manually move master shapes with preassigned layers if you want to place them on another lay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Lay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Drawing sca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Precision techniq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Dimension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Page Setup dialog box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U1G14" descr=""/>
          <p:cNvPicPr/>
          <p:nvPr/>
        </p:nvPicPr>
        <p:blipFill>
          <a:blip r:embed="rId2"/>
          <a:stretch/>
        </p:blipFill>
        <p:spPr>
          <a:xfrm>
            <a:off x="2149560" y="1330200"/>
            <a:ext cx="54291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Add and adjust shapes manually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add a shape to a drawing page, drag the shape from the stencil to the drawing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 resize, rotate, or reposition a shape, use the handles at the end points of the shap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</a:rPr>
              <a:t>The Custom Properties dialog box 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U1G19" descr=""/>
          <p:cNvPicPr/>
          <p:nvPr/>
        </p:nvPicPr>
        <p:blipFill>
          <a:blip r:embed="rId2"/>
          <a:stretch/>
        </p:blipFill>
        <p:spPr>
          <a:xfrm>
            <a:off x="2179800" y="1193760"/>
            <a:ext cx="55242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1:59:44Z</dcterms:modified>
  <cp:revision>67</cp:revision>
  <dc:subject/>
  <dc:title>PowerPoint Presentation</dc:title>
</cp:coreProperties>
</file>