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714-832A-49FB-B883-36134781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038-3306-41DF-8A3D-8EE4997B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BDF-F422-4219-9448-FE59BB2D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F6B-2A0F-478C-B0A2-6BD6657A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7CC-9618-4C4E-8330-A02F1464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8F8-F10D-4E2B-84F4-AF7ECF70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74B-3468-4A17-9336-408C6C9A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9E5-A838-4D33-AA91-1DDE01E0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8D0-02EA-4179-A654-E51FDA49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5ED-C3F3-4A7B-B98C-EA2ABAAB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029E-CAAB-4056-83E5-7FBB0B39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BB6-AA4B-4C34-80CE-48DE0540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6E4B-AA66-4B6C-A0C6-CB96C21CA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our sp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86040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or years we've been involved in food service and manufacturing where the finished product must be consistent week in and week 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ll major food manufacturers buy their spices from premier import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o do we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very Outlander spice is of premium qua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utlander spices not only excel in quality, flavor, and freshness but also are priced much lower than spices in retail 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08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04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828800" y="2286000"/>
          <a:ext cx="33019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86000"/>
                    <a:ext cx="33019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16:30:27Z</dcterms:created>
  <dc:creator>Kwils</dc:creator>
  <dc:description/>
  <dc:language>en-US</dc:language>
  <cp:lastModifiedBy>Student Participant</cp:lastModifiedBy>
  <dcterms:modified xsi:type="dcterms:W3CDTF">2005-02-24T03:30:23Z</dcterms:modified>
  <cp:revision>4</cp:revision>
  <dc:subject/>
  <dc:title>Outlander Spices</dc:title>
</cp:coreProperties>
</file>