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7AB-03DB-4C48-B9B7-D35BDF97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7CC-B5CA-4FCE-B82D-7F5B0FCB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6D1-5CC6-4DD4-B903-A050FCC2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A49-95C9-462B-9284-DF653600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8506-621B-4480-AFEB-7F0D9114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7CA5-97F5-4463-B32B-171BCAF9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2996-3058-4FE6-95BA-6638D841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37A-FD00-4E40-99DC-95B5D1E4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1B07-76AB-4F75-9282-E78DA64C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771B-70FD-4ED7-BD1F-421E5498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339-E874-4366-B205-2641FE9C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809-CA40-4A7D-B769-C9FD7728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E8DD-CF78-420C-A4E4-304A62DF2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533520"/>
            <a:ext cx="80010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ur team of dedicated and efficient professionals has a focused plan in place and will ensure that Outlander Spices remains the market leader in quality sp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Torch Bearers - Meet the people who make the many flavors of Outlander Spices reach your kitc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09480" y="685800"/>
          <a:ext cx="792504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79250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8:42:19Z</dcterms:created>
  <dc:creator>Kwils</dc:creator>
  <dc:description/>
  <dc:language>en-US</dc:language>
  <cp:lastModifiedBy>Kwils</cp:lastModifiedBy>
  <dcterms:modified xsi:type="dcterms:W3CDTF">2004-12-20T19:03:59Z</dcterms:modified>
  <cp:revision>3</cp:revision>
  <dc:subject/>
  <dc:title>PowerPoint Presentation</dc:title>
</cp:coreProperties>
</file>