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7144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47960" y="99036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29492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7144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47960" y="3920040"/>
            <a:ext cx="245340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96720" y="-360"/>
            <a:ext cx="7623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99840" y="392004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840" y="990360"/>
            <a:ext cx="371844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94920" y="3920040"/>
            <a:ext cx="7620120" cy="26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8640" indent="-458640">
              <a:spcBef>
                <a:spcPts val="799"/>
              </a:spcBef>
              <a:buClr>
                <a:srgbClr val="6699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1" marL="917640" indent="-344520">
              <a:spcBef>
                <a:spcPts val="799"/>
              </a:spcBef>
              <a:buClr>
                <a:srgbClr val="66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2" marL="1434960" indent="-353880">
              <a:spcBef>
                <a:spcPts val="799"/>
              </a:spcBef>
              <a:buClr>
                <a:srgbClr val="66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3" marL="1835280" indent="-236520">
              <a:spcBef>
                <a:spcPts val="799"/>
              </a:spcBef>
              <a:buClr>
                <a:srgbClr val="66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4" marL="2281320" indent="-223920">
              <a:spcBef>
                <a:spcPts val="799"/>
              </a:spcBef>
              <a:buClr>
                <a:srgbClr val="6699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5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lvl="6" marL="228132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9044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fee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6720" y="-360"/>
            <a:ext cx="7623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  <a:ea typeface="Times New Roman"/>
              </a:rPr>
              <a:t>Visio Professional 2007: Basic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990360"/>
            <a:ext cx="7620120" cy="56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The Visio environment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Drawing tool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Basic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Formatting drawing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Working with pag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Network and brainstorming diagram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Arial"/>
                <a:ea typeface="Times New Roman"/>
              </a:rPr>
              <a:t>An introduction to advanced features 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1T12:41:01Z</dcterms:created>
  <dc:creator>K.M.Subhash</dc:creator>
  <dc:description/>
  <dc:language>en-US</dc:language>
  <cp:lastModifiedBy>Steve</cp:lastModifiedBy>
  <dcterms:modified xsi:type="dcterms:W3CDTF">2007-07-17T01:03:39Z</dcterms:modified>
  <cp:revision>10</cp:revision>
  <dc:subject/>
  <dc:title>Office 2003: Web Components and Collaboration</dc:title>
</cp:coreProperties>
</file>