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120760" y="19008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twork and brainstorming diagrams</a:t>
            </a: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31560" y="1269720"/>
            <a:ext cx="768348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network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rack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brainstorming diagram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rainstorming menu commands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08040" y="1722600"/>
          <a:ext cx="7280280" cy="3466800"/>
        </p:xfrm>
        <a:graphic>
          <a:graphicData uri="http://schemas.openxmlformats.org/drawingml/2006/table">
            <a:tbl>
              <a:tblPr/>
              <a:tblGrid>
                <a:gridCol w="2035440"/>
                <a:gridCol w="524484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Command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uto-Arrange Topic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utomatically arranges various topics in a brainstorming diagram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dd Main 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nserts a Main topic shape in a diagram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dd Sub 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ttaches a subtopic for the selected 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dd Peer Topic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nserts a topic at the same level as the selected topic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dd Multiple Subtopic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reates several subtopics simultaneously by using the Add Multiple Topics dialog box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ange Topic Shap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odifies the shape of a topic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Brainstorming diagram example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000160" y="1820880"/>
            <a:ext cx="6201000" cy="3557520"/>
            <a:chOff x="2000160" y="1820880"/>
            <a:chExt cx="6201000" cy="3557520"/>
          </a:xfrm>
        </p:grpSpPr>
        <p:sp>
          <p:nvSpPr>
            <p:cNvPr id="67" name=""/>
            <p:cNvSpPr/>
            <p:nvPr/>
          </p:nvSpPr>
          <p:spPr>
            <a:xfrm>
              <a:off x="2000160" y="1820880"/>
              <a:ext cx="6201000" cy="355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046" descr=""/>
            <p:cNvPicPr/>
            <p:nvPr/>
          </p:nvPicPr>
          <p:blipFill>
            <a:blip r:embed="rId1"/>
            <a:stretch/>
          </p:blipFill>
          <p:spPr>
            <a:xfrm>
              <a:off x="2152800" y="1979280"/>
              <a:ext cx="5895720" cy="324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Export diagram to XM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pen the brainstorming diagram to ex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Brainstorming, Export Data, To XM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location where you want to save the XML fil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Save. Visio exports the data to the XML file. When it is finished, the Brainstorming dialog box appears indicating the export is comple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Import XML dat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new drawing based on the Brainstorming Diagram templat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Brainstorming, Import Dat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to the location of the XML file you want to impor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rom the Files of Type list, select XML Files to view the XML fi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XML file you want to import, then click Open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network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rack diagram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brainstorming diagram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Ra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ology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25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193840" y="2055960"/>
            <a:ext cx="6141960" cy="2871720"/>
            <a:chOff x="2193840" y="2055960"/>
            <a:chExt cx="6141960" cy="2871720"/>
          </a:xfrm>
        </p:grpSpPr>
        <p:sp>
          <p:nvSpPr>
            <p:cNvPr id="46" name=""/>
            <p:cNvSpPr/>
            <p:nvPr/>
          </p:nvSpPr>
          <p:spPr>
            <a:xfrm>
              <a:off x="2193840" y="2055960"/>
              <a:ext cx="6141960" cy="28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7" name=""/>
            <p:cNvGraphicFramePr/>
            <p:nvPr/>
          </p:nvGraphicFramePr>
          <p:xfrm>
            <a:off x="2311560" y="2141640"/>
            <a:ext cx="5655960" cy="2682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11560" y="2141640"/>
                      <a:ext cx="5655960" cy="268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connection handl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98600" y="2535120"/>
            <a:ext cx="56041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3399"/>
                </a:solidFill>
                <a:latin typeface="Arial"/>
              </a:rPr>
              <a:t>Hide extra connection handles</a:t>
            </a:r>
            <a:endParaRPr b="0" lang="en-US" sz="3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73440" y="2117880"/>
            <a:ext cx="4653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position a text block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395520" y="2354400"/>
            <a:ext cx="3409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Ra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ack diagram exampl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3378240" y="1514520"/>
            <a:ext cx="3443040" cy="4172040"/>
            <a:chOff x="3378240" y="1514520"/>
            <a:chExt cx="3443040" cy="4172040"/>
          </a:xfrm>
        </p:grpSpPr>
        <p:sp>
          <p:nvSpPr>
            <p:cNvPr id="59" name=""/>
            <p:cNvSpPr/>
            <p:nvPr/>
          </p:nvSpPr>
          <p:spPr>
            <a:xfrm>
              <a:off x="3378240" y="1514520"/>
              <a:ext cx="3443040" cy="4172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001" descr=""/>
            <p:cNvPicPr/>
            <p:nvPr/>
          </p:nvPicPr>
          <p:blipFill>
            <a:blip r:embed="rId1"/>
            <a:stretch/>
          </p:blipFill>
          <p:spPr>
            <a:xfrm>
              <a:off x="3614760" y="1640160"/>
              <a:ext cx="2970000" cy="3922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Networ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Rack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4:29Z</dcterms:modified>
  <cp:revision>19</cp:revision>
  <dc:subject/>
  <dc:title>Exploring the Visio environment </dc:title>
</cp:coreProperties>
</file>