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Drawing tool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w and manipulat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 with compound lines and duplication techniqu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lign, distribute, group, and rotat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asic shapes and lin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ompou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 Editing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lign Shapes dialog box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028" descr=""/>
          <p:cNvPicPr/>
          <p:nvPr/>
        </p:nvPicPr>
        <p:blipFill>
          <a:blip r:embed="rId1"/>
          <a:stretch/>
        </p:blipFill>
        <p:spPr>
          <a:xfrm>
            <a:off x="3578400" y="1893960"/>
            <a:ext cx="2943000" cy="30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ference objec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2455920" y="2111400"/>
            <a:ext cx="5186160" cy="2633400"/>
            <a:chOff x="2455920" y="2111400"/>
            <a:chExt cx="5186160" cy="2633400"/>
          </a:xfrm>
        </p:grpSpPr>
        <p:sp>
          <p:nvSpPr>
            <p:cNvPr id="79" name=""/>
            <p:cNvSpPr/>
            <p:nvPr/>
          </p:nvSpPr>
          <p:spPr>
            <a:xfrm>
              <a:off x="2455920" y="2111400"/>
              <a:ext cx="5186160" cy="263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2680920" y="2384280"/>
              <a:ext cx="4735440" cy="2089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Action toolb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133720" y="2322360"/>
          <a:ext cx="5657760" cy="106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322360"/>
                    <a:ext cx="565776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draw and manipulate shap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compou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align, distribute, group, and rotat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Basic shapes and line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Compou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Editing object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reate basic shape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7176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79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946160" y="2416320"/>
            <a:ext cx="5892840" cy="2260440"/>
            <a:chOff x="1946160" y="2416320"/>
            <a:chExt cx="5892840" cy="2260440"/>
          </a:xfrm>
        </p:grpSpPr>
        <p:sp>
          <p:nvSpPr>
            <p:cNvPr id="47" name=""/>
            <p:cNvSpPr/>
            <p:nvPr/>
          </p:nvSpPr>
          <p:spPr>
            <a:xfrm>
              <a:off x="1946160" y="2416320"/>
              <a:ext cx="5892840" cy="22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2155680" y="2638440"/>
            <a:ext cx="5558040" cy="1900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55680" y="2638440"/>
                      <a:ext cx="5558040" cy="1900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0" y="27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urved lines with the Arc tool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900520" y="2131920"/>
            <a:ext cx="4298760" cy="2592360"/>
            <a:chOff x="2900520" y="2131920"/>
            <a:chExt cx="4298760" cy="2592360"/>
          </a:xfrm>
        </p:grpSpPr>
        <p:sp>
          <p:nvSpPr>
            <p:cNvPr id="53" name=""/>
            <p:cNvSpPr/>
            <p:nvPr/>
          </p:nvSpPr>
          <p:spPr>
            <a:xfrm>
              <a:off x="2900520" y="2131920"/>
              <a:ext cx="4298760" cy="259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3390840" y="2601720"/>
              <a:ext cx="3317400" cy="1654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shape arcs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3527280" y="1600200"/>
            <a:ext cx="3043080" cy="3657600"/>
            <a:chOff x="3527280" y="1600200"/>
            <a:chExt cx="3043080" cy="3657600"/>
          </a:xfrm>
        </p:grpSpPr>
        <p:sp>
          <p:nvSpPr>
            <p:cNvPr id="57" name=""/>
            <p:cNvSpPr/>
            <p:nvPr/>
          </p:nvSpPr>
          <p:spPr>
            <a:xfrm>
              <a:off x="3527280" y="1600200"/>
              <a:ext cx="3043080" cy="3657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3951000" y="1982880"/>
              <a:ext cx="2193840" cy="2892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2681280" y="2077920"/>
            <a:ext cx="4735440" cy="2702160"/>
            <a:chOff x="2681280" y="2077920"/>
            <a:chExt cx="4735440" cy="2702160"/>
          </a:xfrm>
        </p:grpSpPr>
        <p:sp>
          <p:nvSpPr>
            <p:cNvPr id="60" name=""/>
            <p:cNvSpPr/>
            <p:nvPr/>
          </p:nvSpPr>
          <p:spPr>
            <a:xfrm>
              <a:off x="2681280" y="2077920"/>
              <a:ext cx="4735440" cy="2702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3041640" y="2419200"/>
              <a:ext cx="4013280" cy="2021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Adjust an arc with the Pencil tool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 Basic shapes and lines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 Compound lin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Editing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Freeform l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2565360" y="1866960"/>
            <a:ext cx="4967280" cy="3124080"/>
            <a:chOff x="2565360" y="1866960"/>
            <a:chExt cx="4967280" cy="3124080"/>
          </a:xfrm>
        </p:grpSpPr>
        <p:sp>
          <p:nvSpPr>
            <p:cNvPr id="67" name=""/>
            <p:cNvSpPr/>
            <p:nvPr/>
          </p:nvSpPr>
          <p:spPr>
            <a:xfrm>
              <a:off x="2565360" y="1866960"/>
              <a:ext cx="4967280" cy="31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1"/>
            <a:stretch/>
          </p:blipFill>
          <p:spPr>
            <a:xfrm>
              <a:off x="2790720" y="2054160"/>
              <a:ext cx="4516200" cy="2748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ompound line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97080" y="2022480"/>
            <a:ext cx="5703840" cy="2811600"/>
            <a:chOff x="2197080" y="2022480"/>
            <a:chExt cx="5703840" cy="2811600"/>
          </a:xfrm>
        </p:grpSpPr>
        <p:sp>
          <p:nvSpPr>
            <p:cNvPr id="71" name=""/>
            <p:cNvSpPr/>
            <p:nvPr/>
          </p:nvSpPr>
          <p:spPr>
            <a:xfrm>
              <a:off x="2197080" y="2022480"/>
              <a:ext cx="5703840" cy="281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" name="" descr=""/>
            <p:cNvPicPr/>
            <p:nvPr/>
          </p:nvPicPr>
          <p:blipFill>
            <a:blip r:embed="rId1"/>
            <a:stretch/>
          </p:blipFill>
          <p:spPr>
            <a:xfrm>
              <a:off x="2563920" y="2525760"/>
              <a:ext cx="4971960" cy="1805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6:57Z</dcterms:modified>
  <cp:revision>28</cp:revision>
  <dc:subject/>
  <dc:title>Exploring the Visio environment </dc:title>
</cp:coreProperties>
</file>