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The Visio environment 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Unit objectiv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Create a new drawing and use interactive Hel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avigate in a Visio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Manipulate windows and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elect, scale, and resize object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View toolbar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95600" y="2532240"/>
            <a:ext cx="4935600" cy="15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Page tabs and control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14480" y="2548080"/>
            <a:ext cx="449748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Rename a page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Right-click the page tab to renam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lect Rename from the shortcut menu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ype a new name for the page tab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Press Enter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C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Visio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Navigating in Vis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C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indows and stencil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Manipulating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Anchored windo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60840" y="1916280"/>
            <a:ext cx="4606920" cy="27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Manipulate windows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float a docked or anchored window, drag the window title bar towards the center of the work are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anchor a floated window, slowly drag the window towards an edge of the work area until it snaps into place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 dock a floated window, drag the window past the edge of the work area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D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Visio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Navigating in Vis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Windows and stencil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D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Manipulating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elected objec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66920" y="1817640"/>
            <a:ext cx="3794400" cy="2975040"/>
            <a:chOff x="3166920" y="1817640"/>
            <a:chExt cx="3794400" cy="2975040"/>
          </a:xfrm>
        </p:grpSpPr>
        <p:sp>
          <p:nvSpPr>
            <p:cNvPr id="73" name=""/>
            <p:cNvSpPr/>
            <p:nvPr/>
          </p:nvSpPr>
          <p:spPr>
            <a:xfrm>
              <a:off x="3166920" y="1817640"/>
              <a:ext cx="3794400" cy="297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3421080" y="2219400"/>
              <a:ext cx="3373560" cy="22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Select multiple objects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Hold the Shift key as you click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g a marquee around the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Use the Multiple Select tool, which is located in the Pointer tool list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Scale and resize an objec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982960" y="1967040"/>
            <a:ext cx="4162320" cy="2674800"/>
            <a:chOff x="2982960" y="1967040"/>
            <a:chExt cx="4162320" cy="2674800"/>
          </a:xfrm>
        </p:grpSpPr>
        <p:sp>
          <p:nvSpPr>
            <p:cNvPr id="80" name=""/>
            <p:cNvSpPr/>
            <p:nvPr/>
          </p:nvSpPr>
          <p:spPr>
            <a:xfrm>
              <a:off x="2982960" y="1967040"/>
              <a:ext cx="4162320" cy="26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3132000" y="2158920"/>
              <a:ext cx="3692160" cy="230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A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A: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Visio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B: Navigating in Vis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Windows and stencil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Manipulating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Unit summary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create a new drawing and use interactive Help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navigate in a Visio drawing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manipulate windows and stencil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earned how to select, scale, and resize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Getting Started windo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4" name="0041" descr=""/>
          <p:cNvPicPr/>
          <p:nvPr/>
        </p:nvPicPr>
        <p:blipFill>
          <a:blip r:embed="rId1"/>
          <a:stretch/>
        </p:blipFill>
        <p:spPr>
          <a:xfrm>
            <a:off x="1598760" y="1305000"/>
            <a:ext cx="691992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emplate overvie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emplates typically include: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One or more stencils containing master shapes used in a specific type of drawing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 basic page layou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Line, text, and fill style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Specialized toolbars that provide drawing-specific commands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work area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79520" y="963720"/>
            <a:ext cx="7367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he Visio Help window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0" name="006" descr=""/>
          <p:cNvPicPr/>
          <p:nvPr/>
        </p:nvPicPr>
        <p:blipFill>
          <a:blip r:embed="rId1"/>
          <a:stretch/>
        </p:blipFill>
        <p:spPr>
          <a:xfrm>
            <a:off x="2617920" y="1473120"/>
            <a:ext cx="489096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  <a:ea typeface="Times New Roman"/>
              </a:rPr>
              <a:t>Changing the stencil display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32320" y="1530360"/>
            <a:ext cx="3062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Topic B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A: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Visio basic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opic B:</a:t>
            </a: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Navigating in Visio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C: Windows and stencil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  <a:ea typeface="Times New Roman"/>
              </a:rPr>
              <a:t>Topic D: Manipulating objects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Visio file types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298600" y="1752480"/>
          <a:ext cx="5473800" cy="2425680"/>
        </p:xfrm>
        <a:graphic>
          <a:graphicData uri="http://schemas.openxmlformats.org/drawingml/2006/table">
            <a:tbl>
              <a:tblPr/>
              <a:tblGrid>
                <a:gridCol w="1917720"/>
                <a:gridCol w="3556080"/>
              </a:tblGrid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File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.vsd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A Visio drawing file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.vss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A Visio stencil file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.vst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  <a:ea typeface="Times New Roman"/>
                        </a:rPr>
                        <a:t>A Visio template file</a:t>
                      </a:r>
                      <a:r>
                        <a:rPr b="0" lang="en-US" sz="28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1:10:19Z</dcterms:created>
  <dc:creator>ff</dc:creator>
  <dc:description/>
  <dc:language>en-US</dc:language>
  <cp:lastModifiedBy>Steve</cp:lastModifiedBy>
  <dcterms:modified xsi:type="dcterms:W3CDTF">2007-07-17T01:07:30Z</dcterms:modified>
  <cp:revision>47</cp:revision>
  <dc:subject/>
  <dc:title>Exploring the Visio environment </dc:title>
</cp:coreProperties>
</file>