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294920" y="3920040"/>
            <a:ext cx="762012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392004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199840" y="392004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871440" y="99036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447960" y="99036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1294920" y="392004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871440" y="392004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447960" y="392004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296720" y="-360"/>
            <a:ext cx="7623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1294920" y="392004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99840" y="392004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294920" y="3920040"/>
            <a:ext cx="762012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fe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1" marL="917640" indent="-344520">
              <a:spcBef>
                <a:spcPts val="799"/>
              </a:spcBef>
              <a:buClr>
                <a:srgbClr val="6699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2" marL="1434960" indent="-353880">
              <a:spcBef>
                <a:spcPts val="799"/>
              </a:spcBef>
              <a:buClr>
                <a:srgbClr val="66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3" marL="1835280" indent="-236520">
              <a:spcBef>
                <a:spcPts val="799"/>
              </a:spcBef>
              <a:buClr>
                <a:srgbClr val="66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4" marL="2281320" indent="-223920">
              <a:spcBef>
                <a:spcPts val="799"/>
              </a:spcBef>
              <a:buClr>
                <a:srgbClr val="6699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5" marL="228132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6" marL="228132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9044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fe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An introduction to advanced features</a:t>
            </a: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8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Unit objective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Use advanced connection and layout techniques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et custom properties for shapes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Create and modify property reports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fe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3399"/>
                </a:solidFill>
                <a:latin typeface="Arial"/>
              </a:rPr>
              <a:t>Define Shape Data dialog box</a:t>
            </a:r>
            <a:endParaRPr b="0" lang="en-US" sz="3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2152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882880" y="1619280"/>
            <a:ext cx="4232160" cy="38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fe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  <a:ea typeface="Times New Roman"/>
              </a:rPr>
              <a:t>Apply a new custom property set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Select the shape to which you want to apply the custom property set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In the Shape Data Sets panel, check each property set you want to add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Select whether to apply the checked property set(s) to shapes selected in the drawing or selected in the stenci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If you want to remove an existing property set, check Remove existing data set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Click Apply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fe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Topic C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  <a:ea typeface="Times New Roman"/>
              </a:rPr>
              <a:t>Topic A: Advanced layout and connection techniques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  <a:ea typeface="Times New Roman"/>
              </a:rPr>
              <a:t>Topic B: Custom properties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Topic C: Reporting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fe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The Reports dialog box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7" name="035" descr=""/>
          <p:cNvPicPr/>
          <p:nvPr/>
        </p:nvPicPr>
        <p:blipFill>
          <a:blip r:embed="rId1"/>
          <a:stretch/>
        </p:blipFill>
        <p:spPr>
          <a:xfrm>
            <a:off x="2257560" y="1401840"/>
            <a:ext cx="5200560" cy="44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fe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The Run Report dialog box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9" name="037" descr=""/>
          <p:cNvPicPr/>
          <p:nvPr/>
        </p:nvPicPr>
        <p:blipFill>
          <a:blip r:embed="rId1"/>
          <a:stretch/>
        </p:blipFill>
        <p:spPr>
          <a:xfrm>
            <a:off x="2935440" y="1724040"/>
            <a:ext cx="4278240" cy="42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fe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Embedded Excel worksheet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71" name="038" descr=""/>
          <p:cNvPicPr/>
          <p:nvPr/>
        </p:nvPicPr>
        <p:blipFill>
          <a:blip r:embed="rId1"/>
          <a:stretch/>
        </p:blipFill>
        <p:spPr>
          <a:xfrm>
            <a:off x="2003400" y="2232000"/>
            <a:ext cx="6316560" cy="2689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fe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  <a:ea typeface="Times New Roman"/>
              </a:rPr>
              <a:t>Unit summary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Used advanced connection and layout techniques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Learned how to set custom properties for shapes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Created and modified property report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fe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Topic A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Topic A: 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Advanced layout and connection techniques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  <a:ea typeface="Times New Roman"/>
              </a:rPr>
              <a:t>Topic B: Custom properties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  <a:ea typeface="Times New Roman"/>
              </a:rPr>
              <a:t>Topic C: Reporting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fe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Add guides and glue shapes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738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1473120" y="988920"/>
          <a:ext cx="7404120" cy="507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3120" y="988920"/>
                    <a:ext cx="7404120" cy="507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fe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Add connection points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243240" y="2890800"/>
            <a:ext cx="3838680" cy="13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fe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3399"/>
                </a:solidFill>
                <a:latin typeface="Arial"/>
              </a:rPr>
              <a:t>The Select by Type dialog box</a:t>
            </a:r>
            <a:endParaRPr b="0" lang="en-US" sz="38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50" name="018" descr=""/>
          <p:cNvPicPr/>
          <p:nvPr/>
        </p:nvPicPr>
        <p:blipFill>
          <a:blip r:embed="rId1"/>
          <a:stretch/>
        </p:blipFill>
        <p:spPr>
          <a:xfrm>
            <a:off x="3017880" y="2327400"/>
            <a:ext cx="4287960" cy="249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fe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The Snap &amp; Glue toolbar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803680" y="2506680"/>
            <a:ext cx="4716360" cy="213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fe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Topic B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  <a:ea typeface="Times New Roman"/>
              </a:rPr>
              <a:t>Topic A: Advanced layout and connection techniques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Topic B: Custom properties</a:t>
            </a:r>
            <a:r>
              <a:rPr b="0" lang="en-US" sz="3200" spc="-1" strike="noStrike">
                <a:solidFill>
                  <a:srgbClr val="b2b2b2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  <a:ea typeface="Times New Roman"/>
              </a:rPr>
              <a:t>Topic C: Reporting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fe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The Shape Data panel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56" name="031" descr=""/>
          <p:cNvPicPr/>
          <p:nvPr/>
        </p:nvPicPr>
        <p:blipFill>
          <a:blip r:embed="rId1"/>
          <a:stretch/>
        </p:blipFill>
        <p:spPr>
          <a:xfrm>
            <a:off x="3749760" y="1955880"/>
            <a:ext cx="2824200" cy="32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fe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The Shape Data Sets panel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58" name="032" descr=""/>
          <p:cNvPicPr/>
          <p:nvPr/>
        </p:nvPicPr>
        <p:blipFill>
          <a:blip r:embed="rId1"/>
          <a:stretch/>
        </p:blipFill>
        <p:spPr>
          <a:xfrm>
            <a:off x="3973680" y="2584440"/>
            <a:ext cx="2376360" cy="19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2T11:10:19Z</dcterms:created>
  <dc:creator>ff</dc:creator>
  <dc:description/>
  <dc:language>en-US</dc:language>
  <cp:lastModifiedBy>Steve</cp:lastModifiedBy>
  <dcterms:modified xsi:type="dcterms:W3CDTF">2007-07-17T01:08:51Z</dcterms:modified>
  <cp:revision>20</cp:revision>
  <dc:subject/>
  <dc:title>Exploring the Visio environment </dc:title>
</cp:coreProperties>
</file>