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ing technical layou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nd assign shapes to a layer, customize a layer, and add custom shapes to a lay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se a predefined scale, change the drawing scale, add and adjust shapes, change a shape’s size and position settings, and duplicate shap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dd and adjust dimension connectors, add dimension lines, set display units, and calculate and adjust the area of a roo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trol handl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313000" y="1925640"/>
            <a:ext cx="5530680" cy="2712960"/>
            <a:chOff x="2313000" y="1925640"/>
            <a:chExt cx="5530680" cy="2712960"/>
          </a:xfrm>
        </p:grpSpPr>
        <p:sp>
          <p:nvSpPr>
            <p:cNvPr id="63" name=""/>
            <p:cNvSpPr/>
            <p:nvPr/>
          </p:nvSpPr>
          <p:spPr>
            <a:xfrm>
              <a:off x="2313000" y="2530440"/>
              <a:ext cx="5530680" cy="210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565360" y="1925640"/>
              <a:ext cx="5027760" cy="240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290052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Duplicate a series of shape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the down-arrow next to the Pointer to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Area Select or Lasso Sel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around the shapes to create a selection marquee, and then release the mou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Press Ctrl and drag the selected shapes to duplicate th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ay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Drawing sc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Dimension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Add a dimension connecto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a dimension connector shape from the Dimensioning Architectural stencil and place it on a shape on the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Right-click a shape and choose Add a Dimens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mension line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3" name="029" descr=""/>
          <p:cNvPicPr/>
          <p:nvPr/>
        </p:nvPicPr>
        <p:blipFill>
          <a:blip r:embed="rId1"/>
          <a:stretch/>
        </p:blipFill>
        <p:spPr>
          <a:xfrm>
            <a:off x="2563920" y="1941480"/>
            <a:ext cx="4825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rea measuremen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ea measurements provide the total number of square feet in a room or a closed shape, such as rectang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the Space shape to calculate space are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nd assign shapes to a layer, customize a layer, and add custom shapes to a lay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use a predefined scale, change the drawing scale, add and adjust shapes manually and by using the Custom Properties dialog box, change a shape’s size and position settings, and duplicate shap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add and adjust dimension connectors, add dimension lines automatically, set display units, and calculate and adjust the area of a roo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Laye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Drawing sc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Dimension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ay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401920" y="1454040"/>
            <a:ext cx="5548320" cy="4600440"/>
            <a:chOff x="2401920" y="1454040"/>
            <a:chExt cx="5548320" cy="4600440"/>
          </a:xfrm>
        </p:grpSpPr>
        <p:sp>
          <p:nvSpPr>
            <p:cNvPr id="45" name=""/>
            <p:cNvSpPr/>
            <p:nvPr/>
          </p:nvSpPr>
          <p:spPr>
            <a:xfrm>
              <a:off x="2401920" y="1454040"/>
              <a:ext cx="4630680" cy="460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621160" y="1493640"/>
              <a:ext cx="5329080" cy="447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Layer Properties dialog box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002" descr=""/>
          <p:cNvPicPr/>
          <p:nvPr/>
        </p:nvPicPr>
        <p:blipFill>
          <a:blip r:embed="rId1"/>
          <a:stretch/>
        </p:blipFill>
        <p:spPr>
          <a:xfrm>
            <a:off x="2122560" y="1533600"/>
            <a:ext cx="59148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Layer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012" descr=""/>
          <p:cNvPicPr/>
          <p:nvPr/>
        </p:nvPicPr>
        <p:blipFill>
          <a:blip r:embed="rId1"/>
          <a:stretch/>
        </p:blipFill>
        <p:spPr>
          <a:xfrm>
            <a:off x="2651040" y="1731960"/>
            <a:ext cx="4076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ay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Drawing sca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Dimension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etting the drawing sc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U1G14" descr=""/>
          <p:cNvPicPr/>
          <p:nvPr/>
        </p:nvPicPr>
        <p:blipFill>
          <a:blip r:embed="rId1"/>
          <a:stretch/>
        </p:blipFill>
        <p:spPr>
          <a:xfrm>
            <a:off x="2233440" y="1562040"/>
            <a:ext cx="59882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hape Data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016" descr=""/>
          <p:cNvPicPr/>
          <p:nvPr/>
        </p:nvPicPr>
        <p:blipFill>
          <a:blip r:embed="rId1"/>
          <a:stretch/>
        </p:blipFill>
        <p:spPr>
          <a:xfrm>
            <a:off x="3281400" y="2230560"/>
            <a:ext cx="37288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ize &amp; Position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" name="018" descr=""/>
          <p:cNvPicPr/>
          <p:nvPr/>
        </p:nvPicPr>
        <p:blipFill>
          <a:blip r:embed="rId1"/>
          <a:stretch/>
        </p:blipFill>
        <p:spPr>
          <a:xfrm>
            <a:off x="3719520" y="2655720"/>
            <a:ext cx="2852640" cy="21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3:07Z</dcterms:modified>
  <cp:revision>78</cp:revision>
  <dc:subject/>
  <dc:title>PowerPoint Presentation</dc:title>
</cp:coreProperties>
</file>