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04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Custom shape design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complex shapes, and define formulas and functions for a shap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dd behaviors and events to a shape, and protect a shap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and modify master shapes and stencil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ShapeSheet window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2" name="V2003AdvU02ex101" descr=""/>
          <p:cNvPicPr/>
          <p:nvPr/>
        </p:nvPicPr>
        <p:blipFill>
          <a:blip r:embed="rId1"/>
          <a:stretch/>
        </p:blipFill>
        <p:spPr>
          <a:xfrm>
            <a:off x="1643040" y="1976400"/>
            <a:ext cx="6892920" cy="290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Use ShapeSheet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to change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n the drawing page, select the shap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Window, Show ShapeShee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ShapeSheet, find the section containing the attributes you want to chan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Enter a value or formula, and press Ent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 close the ShapeSheet, click the small “x” in the upper-right corn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The Insert Function dialog box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6" name="002" descr=""/>
          <p:cNvPicPr/>
          <p:nvPr/>
        </p:nvPicPr>
        <p:blipFill>
          <a:blip r:embed="rId1"/>
          <a:stretch/>
        </p:blipFill>
        <p:spPr>
          <a:xfrm>
            <a:off x="2614680" y="1395360"/>
            <a:ext cx="527364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Insert Section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8" name="052" descr=""/>
          <p:cNvPicPr/>
          <p:nvPr/>
        </p:nvPicPr>
        <p:blipFill>
          <a:blip r:embed="rId1"/>
          <a:stretch/>
        </p:blipFill>
        <p:spPr>
          <a:xfrm>
            <a:off x="3222720" y="1690560"/>
            <a:ext cx="383832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Action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0" name="052" descr=""/>
          <p:cNvPicPr/>
          <p:nvPr/>
        </p:nvPicPr>
        <p:blipFill>
          <a:blip r:embed="rId1"/>
          <a:stretch/>
        </p:blipFill>
        <p:spPr>
          <a:xfrm>
            <a:off x="3054240" y="1177920"/>
            <a:ext cx="466272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The Master Properties dialog box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" name="new3" descr=""/>
          <p:cNvPicPr/>
          <p:nvPr/>
        </p:nvPicPr>
        <p:blipFill>
          <a:blip r:embed="rId1"/>
          <a:stretch/>
        </p:blipFill>
        <p:spPr>
          <a:xfrm>
            <a:off x="2690640" y="1181160"/>
            <a:ext cx="46627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aving stencil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the Save Stencil icon on the right side of the stencil’s title ba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f you want the menu to list the new stencil, save the stencil in the My Shapes fold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create complex shapes and define formulas, and functions for a shap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add behaviors and events to a shape and protect a shap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create and modify master shapes and stenci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pecial drawing operation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Shape behavior and event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Custom stencil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peration command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990720"/>
            <a:ext cx="7620120" cy="56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8640" indent="-458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ombin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ra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ters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ub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r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ff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Fit Curv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A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Special drawing operation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hape behavior and event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Custom stenci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Change default behavior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the shap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ormat, Behavio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ctivate the Double-click tab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eck the action to be triggered and click O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Behavior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" name="011" descr=""/>
          <p:cNvPicPr/>
          <p:nvPr/>
        </p:nvPicPr>
        <p:blipFill>
          <a:blip r:embed="rId1"/>
          <a:stretch/>
        </p:blipFill>
        <p:spPr>
          <a:xfrm>
            <a:off x="2206800" y="1411200"/>
            <a:ext cx="547524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Protection dialog box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U2G15" descr=""/>
          <p:cNvPicPr/>
          <p:nvPr/>
        </p:nvPicPr>
        <p:blipFill>
          <a:blip r:embed="rId1"/>
          <a:stretch/>
        </p:blipFill>
        <p:spPr>
          <a:xfrm>
            <a:off x="2635200" y="1965240"/>
            <a:ext cx="51102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Special drawing operation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Shape behavior and event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C: Custom stenci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Creating a custom stencil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n the Standard toolbar, from the Shapes list, choose New Stenci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Sav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Navigate to the folder where you want to store the stenci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Enter a name for the stenci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Sav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7:50:32Z</dcterms:created>
  <dc:creator>Dan Quackenbush</dc:creator>
  <dc:description/>
  <dc:language>en-US</dc:language>
  <cp:lastModifiedBy>Josh Pincus</cp:lastModifiedBy>
  <dcterms:modified xsi:type="dcterms:W3CDTF">2007-08-08T18:44:12Z</dcterms:modified>
  <cp:revision>96</cp:revision>
  <dc:subject/>
  <dc:title>PowerPoint Presentation</dc:title>
</cp:coreProperties>
</file>