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Business diagrams and Web site mapp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block diagrams by using 2­D and 3‑D sha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workflow diagrams and cross-functional flowchar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organization charts, and create them by importing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Manage projects by using timelines, PERT charts, and Gantt char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Generate Web site maps and a report of broken links on a Web si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ays to compare char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a new version of an organization chart with an older ver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an older version of an organization chart with a newer vers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mpare organization char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newer version of the cha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Organization Chart, Compare Organization Da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esignate the older ver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“My drawing is newer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type of report you want to gener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ing chart dat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2003AdvU03ex1-12" descr=""/>
          <p:cNvPicPr/>
          <p:nvPr/>
        </p:nvPicPr>
        <p:blipFill>
          <a:blip r:embed="rId1"/>
          <a:stretch/>
        </p:blipFill>
        <p:spPr>
          <a:xfrm>
            <a:off x="1895400" y="1316160"/>
            <a:ext cx="6526440" cy="447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  <a:ea typeface="Times New Roman"/>
              </a:rPr>
              <a:t>Import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 organization chart data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012680"/>
            <a:ext cx="762012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Business, Organization Chart Wiz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“Information that’s already stored in a file or a databas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database type and the data file’s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he columns in the data file that define the organizational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he data you want to dis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how you want the organizational hierarchy to be display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66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Finis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lock, tree, and onion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E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e Configure Timeline dialog box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51080" y="1257480"/>
            <a:ext cx="59785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PERT chart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57" descr=""/>
          <p:cNvPicPr/>
          <p:nvPr/>
        </p:nvPicPr>
        <p:blipFill>
          <a:blip r:embed="rId1"/>
          <a:stretch/>
        </p:blipFill>
        <p:spPr>
          <a:xfrm>
            <a:off x="1506600" y="1851120"/>
            <a:ext cx="68832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PERT char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chedule, PERT Cha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PERT Chart Shapes stencil, drag a PERT shape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pdate the information in the task shape field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AutoConnect or the Connector tool to connect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antt chart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32080" y="1739880"/>
            <a:ext cx="73404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Gantt char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chedule, Gantt Cha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project settings and 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eplace the default name and date with task 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tasks to the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tasks you want to link and click the Link Tasks button on the Gantt Chart tool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Block, tree, and onion diagram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E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lock, tree, and onion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E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Web site ma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002" descr=""/>
          <p:cNvPicPr/>
          <p:nvPr/>
        </p:nvPicPr>
        <p:blipFill>
          <a:blip r:embed="rId1"/>
          <a:stretch/>
        </p:blipFill>
        <p:spPr>
          <a:xfrm>
            <a:off x="2387520" y="1220760"/>
            <a:ext cx="5119920" cy="44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enerating a site ma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8160" y="1611360"/>
            <a:ext cx="67104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eb site map setting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001" descr=""/>
          <p:cNvPicPr/>
          <p:nvPr/>
        </p:nvPicPr>
        <p:blipFill>
          <a:blip r:embed="rId1"/>
          <a:stretch/>
        </p:blipFill>
        <p:spPr>
          <a:xfrm>
            <a:off x="1816200" y="1292400"/>
            <a:ext cx="6681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he List and Filter window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007" descr=""/>
          <p:cNvPicPr/>
          <p:nvPr/>
        </p:nvPicPr>
        <p:blipFill>
          <a:blip r:embed="rId1"/>
          <a:stretch/>
        </p:blipFill>
        <p:spPr>
          <a:xfrm>
            <a:off x="1209600" y="1309680"/>
            <a:ext cx="3884760" cy="2482920"/>
          </a:xfrm>
          <a:prstGeom prst="rect">
            <a:avLst/>
          </a:prstGeom>
          <a:ln w="0">
            <a:noFill/>
          </a:ln>
        </p:spPr>
      </p:pic>
      <p:pic>
        <p:nvPicPr>
          <p:cNvPr id="94" name="008" descr=""/>
          <p:cNvPicPr/>
          <p:nvPr/>
        </p:nvPicPr>
        <p:blipFill>
          <a:blip r:embed="rId2"/>
          <a:stretch/>
        </p:blipFill>
        <p:spPr>
          <a:xfrm>
            <a:off x="4683240" y="3865680"/>
            <a:ext cx="38844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enerate a site map repor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Web site ma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Web Site Map, Repo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either Web Site Map All Links or Web Site Map Links with Err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Ru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repor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location for saving the 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Report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010" descr=""/>
          <p:cNvPicPr/>
          <p:nvPr/>
        </p:nvPicPr>
        <p:blipFill>
          <a:blip r:embed="rId1"/>
          <a:stretch/>
        </p:blipFill>
        <p:spPr>
          <a:xfrm>
            <a:off x="2246400" y="1643040"/>
            <a:ext cx="5200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block diagrams by using 2­D and 3‑D sha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workflow diagrams and cross-functional flowchar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ompare organization charts and create an organization chart by importing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timelines, PERT charts, and Gantt char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generate Web site maps and a report of broken lin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block diagram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42" descr=""/>
          <p:cNvPicPr/>
          <p:nvPr/>
        </p:nvPicPr>
        <p:blipFill>
          <a:blip r:embed="rId1"/>
          <a:stretch/>
        </p:blipFill>
        <p:spPr>
          <a:xfrm>
            <a:off x="3419640" y="1592280"/>
            <a:ext cx="3217680" cy="45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block diag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General, Block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shapes from the Blocks or Blocks Raised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 the Standard toolbar, click Sa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Block, tree, and onion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E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workflow diagram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052" descr=""/>
          <p:cNvPicPr/>
          <p:nvPr/>
        </p:nvPicPr>
        <p:blipFill>
          <a:blip r:embed="rId1"/>
          <a:stretch/>
        </p:blipFill>
        <p:spPr>
          <a:xfrm>
            <a:off x="2436840" y="1487520"/>
            <a:ext cx="521028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workflow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Business, Work Flow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desired shapes from the stencils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AutoConnect or the Connector tool to link the diagram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38268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sing AutoConnect, you can connect shapes as you add the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he Flowchart dialog box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036" descr=""/>
          <p:cNvPicPr/>
          <p:nvPr/>
        </p:nvPicPr>
        <p:blipFill>
          <a:blip r:embed="rId1"/>
          <a:stretch/>
        </p:blipFill>
        <p:spPr>
          <a:xfrm>
            <a:off x="3062160" y="1386000"/>
            <a:ext cx="382140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Block, tree, and onion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E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eb site ma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4:48Z</dcterms:modified>
  <cp:revision>106</cp:revision>
  <dc:subject/>
  <dc:title>PowerPoint Presentation</dc:title>
</cp:coreProperties>
</file>