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egrating Visio with other program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Embed a Visio drawing, link a drawing, and use the drag-and-drop feature in Microsoft Wor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 drawings in Microsoft PowerPoint presentations, and link presentations to Visio fil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calendars in Visio and import calendar data from Microsoft Outlook to a Visio calenda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hyperlinks and convert a drawing to a Web pag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Insert Object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013" descr=""/>
          <p:cNvPicPr/>
          <p:nvPr/>
        </p:nvPicPr>
        <p:blipFill>
          <a:blip r:embed="rId1"/>
          <a:stretch/>
        </p:blipFill>
        <p:spPr>
          <a:xfrm>
            <a:off x="2082960" y="1549440"/>
            <a:ext cx="59418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Integration with Microsoft Wor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Power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Integration with Microsoft Outlook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orking with Web-enabling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ypes of calenda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 day or multiple day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 week or multiple wee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 month or multiple month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 year or multiple yea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one-day calend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chedule, Calendar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Calendar Shapes stencil, drag the Day shape to the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Configure dialog box, specify the desired calendar options, and 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-day and multiple-day calendar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MultiDayCalendar" descr=""/>
          <p:cNvPicPr/>
          <p:nvPr/>
        </p:nvPicPr>
        <p:blipFill>
          <a:blip r:embed="rId1"/>
          <a:stretch/>
        </p:blipFill>
        <p:spPr>
          <a:xfrm>
            <a:off x="4581360" y="2324160"/>
            <a:ext cx="3811680" cy="20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42880" y="1830240"/>
            <a:ext cx="2595600" cy="258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Import calendar data from Outlook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tall Microsoft Outlook so you can use the Import Outlook Data Wiza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ing the wizard, you can filter appointments based on date and time ranges and su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ustomize the imported data in Visio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Integration with Microsoft Wor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Power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Microsoft Outlo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Working with Web-enabling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Link a Visio drawing to a fil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drawing and navigate to the desired page and/or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Hyper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ext to Address, click Browse and select Local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to the file you want to link to, select it, and click Op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ext to Sub-address, click Browse, and specify a name and a zoom leve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Hyperlink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71880" y="1467000"/>
            <a:ext cx="57308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Convert a drawing to a Web page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Save as Web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ave As dialog box, browse to the folder where you want to save the fi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a name for the Web-page fi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Change Title, enter a title for the Web page, and 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egration with Microsoft Wor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Power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Microsoft Outlo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orking with Web-enabling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embed a Visio drawing, link a drawing, and use drag-and-drop in Microsoft Wor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insert drawings in Microsoft PowerPoint presentations and link presentations to Visio fil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calendars in Visio and import calendar data from Microsoft Outlook to a Visio calenda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hyperlinks and convert a drawing to a Web pag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Embed an existing file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document, click where you want to place the embedded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ctivate the Insert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Text group, click the Object butt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ctivate the Create from File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the name of the file you want to embed; or click Browse, locate and select the file, and click Inse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Object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003" descr=""/>
          <p:cNvPicPr/>
          <p:nvPr/>
        </p:nvPicPr>
        <p:blipFill>
          <a:blip r:embed="rId1"/>
          <a:stretch/>
        </p:blipFill>
        <p:spPr>
          <a:xfrm>
            <a:off x="1962000" y="1774800"/>
            <a:ext cx="60613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  <a:ea typeface="Times New Roman"/>
              </a:rPr>
              <a:t>Link a file using Paste Special 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Office document to lin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py a portion of the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Visio drawing in which you want to link the Office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Edit, Paste Spec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Paste lin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tional: Check Display as ic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aste Special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008" descr=""/>
          <p:cNvPicPr/>
          <p:nvPr/>
        </p:nvPicPr>
        <p:blipFill>
          <a:blip r:embed="rId1"/>
          <a:stretch/>
        </p:blipFill>
        <p:spPr>
          <a:xfrm>
            <a:off x="2206800" y="1908000"/>
            <a:ext cx="583236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Integration with Microsoft Wor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Integration with Power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Microsoft Outlo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orking with Web-enabling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 a drawing in a presentation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presentation, click where you want to place the embedded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ctivate the Insert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Text group, click Insert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Create from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the Visio file’s path and name; or use Browse to select the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Link a presentation to Visi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Create from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the path and name of the PowerPoint file, or click Brow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eck Link to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tional: Check Display as ic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5:26Z</dcterms:modified>
  <cp:revision>149</cp:revision>
  <dc:subject/>
  <dc:title>PowerPoint Presentation</dc:title>
</cp:coreProperties>
</file>