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Visio 2010 interfac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Rectangle 1030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1029"/>
          <p:cNvGraphicFramePr/>
          <p:nvPr/>
        </p:nvGraphicFramePr>
        <p:xfrm>
          <a:off x="1465200" y="1052640"/>
          <a:ext cx="643572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1052640"/>
                    <a:ext cx="643572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dditional interface component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1444680" y="1522440"/>
          <a:ext cx="6254640" cy="28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522440"/>
                    <a:ext cx="625464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Visio file types 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98600" y="1752480"/>
          <a:ext cx="5473800" cy="2425680"/>
        </p:xfrm>
        <a:graphic>
          <a:graphicData uri="http://schemas.openxmlformats.org/drawingml/2006/table">
            <a:tbl>
              <a:tblPr/>
              <a:tblGrid>
                <a:gridCol w="1917720"/>
                <a:gridCol w="355608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File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  <a:ea typeface="Times New Roman"/>
                        </a:rPr>
                        <a:t>.vsd</a:t>
                      </a: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  <a:ea typeface="Times New Roman"/>
                        </a:rPr>
                        <a:t>A Visio drawing file</a:t>
                      </a: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  <a:ea typeface="Times New Roman"/>
                        </a:rPr>
                        <a:t>.vss</a:t>
                      </a: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  <a:ea typeface="Times New Roman"/>
                        </a:rPr>
                        <a:t>A Visio stencil file</a:t>
                      </a: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  <a:ea typeface="Times New Roman"/>
                        </a:rPr>
                        <a:t>.vst</a:t>
                      </a: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  <a:ea typeface="Times New Roman"/>
                        </a:rPr>
                        <a:t>A Visio template file</a:t>
                      </a:r>
                      <a:r>
                        <a:rPr b="0" lang="en-US" sz="28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Page tabs and control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1217520" y="1468440"/>
          <a:ext cx="692784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1468440"/>
                    <a:ext cx="692784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ename a page 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ouble-click the page tab, type the new name, and press Enter.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r,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Right-click the page tab, choose Rename from the menu, type the new name, and press Enter.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Visio Help window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57" name="Picture 4" descr="help"/>
          <p:cNvPicPr/>
          <p:nvPr/>
        </p:nvPicPr>
        <p:blipFill>
          <a:blip r:embed="rId1"/>
          <a:stretch/>
        </p:blipFill>
        <p:spPr>
          <a:xfrm>
            <a:off x="1427040" y="1131840"/>
            <a:ext cx="59644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11:28Z</dcterms:modified>
  <cp:revision>56</cp:revision>
  <dc:subject/>
  <dc:title>Exploring the Visio environment</dc:title>
</cp:coreProperties>
</file>