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opology shap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554120" y="1719360"/>
          <a:ext cx="61070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719360"/>
                    <a:ext cx="61070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connection handl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1716120" y="1847880"/>
          <a:ext cx="60325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847880"/>
                    <a:ext cx="60325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a7967"/>
                </a:solidFill>
                <a:latin typeface="Arial"/>
              </a:rPr>
              <a:t>Hide extra connection handles</a:t>
            </a:r>
            <a:endParaRPr b="0" lang="en-US" sz="38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1909800" y="1604880"/>
          <a:ext cx="53910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604880"/>
                    <a:ext cx="53910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2:01Z</dcterms:modified>
  <cp:revision>26</cp:revision>
  <dc:subject/>
  <dc:title>Exploring the Visio environment</dc:title>
</cp:coreProperties>
</file>