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Picture 4" descr="ILT PPT sidebar 2008b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Text Box 5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Design tips 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Effective design begins with analyzing the audience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onsider the following questions: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597a7b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Who will use your diagram? 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597a7b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Why will they use it? 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597a7b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What information is most important to them? 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onsider the design and purpose of your diagram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1:10:19Z</dcterms:created>
  <dc:creator>ff</dc:creator>
  <dc:description/>
  <dc:language>en-US</dc:language>
  <cp:lastModifiedBy>Catherine M. Albano</cp:lastModifiedBy>
  <dcterms:modified xsi:type="dcterms:W3CDTF">2011-02-18T00:18:24Z</dcterms:modified>
  <cp:revision>31</cp:revision>
  <dc:subject/>
  <dc:title>Exploring the Visio environment</dc:title>
</cp:coreProperties>
</file>