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%20Slide%20Graphic%204%20150dpi%20s80%20c" descr=""/>
          <p:cNvPicPr/>
          <p:nvPr/>
        </p:nvPicPr>
        <p:blipFill>
          <a:blip r:embed="rId3"/>
          <a:stretch/>
        </p:blipFill>
        <p:spPr>
          <a:xfrm>
            <a:off x="0" y="615960"/>
            <a:ext cx="1060560" cy="6242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61640" y="971280"/>
            <a:ext cx="72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tructuring tex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 bold and italic tex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fine quotations and cita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pply character entities and horizontal ru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odify text siz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 lis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haracter entiti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present symbols not accessible on standard keyboard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clude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&amp;copy; (copyright symbol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&amp;nbsp; (non-breaking space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D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Bold and italic tex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Quotations and cita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Character entities and horizontal ru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D: Text siz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E: Creating lis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Bold and italic tex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Quotations and cita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Character entities and horizontal ru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Text siz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E: Creating lis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ested lis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8" name="newfig" descr=""/>
          <p:cNvPicPr/>
          <p:nvPr/>
        </p:nvPicPr>
        <p:blipFill>
          <a:blip r:embed="rId2"/>
          <a:stretch/>
        </p:blipFill>
        <p:spPr>
          <a:xfrm>
            <a:off x="2219400" y="1235160"/>
            <a:ext cx="465624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earned how to create bold and italic text, create well-formed code, and use the address tag to indicate contact informati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earned how to create block quotes and citation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earned how to use text entities and horizontal rul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earned how to modify text size with the big and small element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earned how to create ordered, unordered, and definition lists, as well as how to nest list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A: Bold and italic tex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Quotations and cita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Character entities and horizontal ru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Text siz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E: Creating lis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Block elemen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 line brea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clude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aragraph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eading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lock quot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Inline elements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o not create line brea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d to mark up text fragm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clude these tag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e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stro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Logical elemen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scribe the intent of the text they contai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clude these tag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e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stro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blockquot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hysical elemen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dicate the visual style of the text they contai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clude the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tag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Well-formed cod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990720"/>
            <a:ext cx="762012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quires that all tags are properly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neste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llow the rule, “first to open, last to close.” For example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024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Ex1-6" descr=""/>
          <p:cNvPicPr/>
          <p:nvPr/>
        </p:nvPicPr>
        <p:blipFill>
          <a:blip r:embed="rId2"/>
          <a:stretch/>
        </p:blipFill>
        <p:spPr>
          <a:xfrm>
            <a:off x="1892160" y="3332160"/>
            <a:ext cx="50976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Bold and italic tex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B: Quotations and cita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Character entities and horizontal ru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Text siz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E: Creating lis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Bold and italic tex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Quotations and cita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C: Character entities and horizontal ru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Text siz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E: Creating lis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21:32:20Z</dcterms:created>
  <dc:creator>Brandon</dc:creator>
  <dc:description/>
  <dc:language>en-US</dc:language>
  <cp:lastModifiedBy>Josh Pincus</cp:lastModifiedBy>
  <dcterms:modified xsi:type="dcterms:W3CDTF">2004-08-16T15:27:18Z</dcterms:modified>
  <cp:revision>25</cp:revision>
  <dc:subject/>
  <dc:title>Introduction to HTML 4.01</dc:title>
</cp:coreProperties>
</file>