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33720" y="-36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%20Slide%20Graphic%204%20150dpi%20s80%20c" descr=""/>
          <p:cNvPicPr/>
          <p:nvPr/>
        </p:nvPicPr>
        <p:blipFill>
          <a:blip r:embed="rId3"/>
          <a:stretch/>
        </p:blipFill>
        <p:spPr>
          <a:xfrm>
            <a:off x="0" y="615960"/>
            <a:ext cx="1060560" cy="6242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66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161640" y="971280"/>
            <a:ext cx="729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rse IL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3372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able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it Objectiv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reate a table, add headings, set the border and width of a table, and add comments to your cod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lign text horizontally and vertically in a table cell, modify cell spacing and padding, and insert images and hyperlinks in a tab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Unit summary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arned how to create a table, including how to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dd heading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et the border and width of a tabl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dd comments to your cod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arned how to align text horizontally and vertically in a cell, as well has how to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ify cell spacing and paddi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nsert images and hyperlinks in a tabl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A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A: Creating tab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B: Modifying tab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Basic table structur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    </a:t>
            </a:r>
            <a:br>
              <a:rPr sz="1800"/>
            </a:b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&lt;table border=“1”&gt;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&lt;tr&gt;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  &lt;td&gt;Row 1, Column 1&lt;/td&gt;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  &lt;td&gt;Row 1,  Column 2&lt;/td&gt;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&lt;/tr&gt;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&lt;tr&gt;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  &lt;td&gt;Row 2, Column 1&lt;/td&gt;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  &lt;td&gt;Row 2, Column 2&lt;/td&gt;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&lt;/tr&gt;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&lt;/table&gt;</a:t>
            </a:r>
            <a:br>
              <a:rPr sz="2400"/>
            </a:br>
            <a:br>
              <a:rPr sz="1800"/>
            </a:b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7" name="pptcap" descr=""/>
          <p:cNvPicPr/>
          <p:nvPr/>
        </p:nvPicPr>
        <p:blipFill>
          <a:blip r:embed="rId2"/>
          <a:stretch/>
        </p:blipFill>
        <p:spPr>
          <a:xfrm>
            <a:off x="3062160" y="5224320"/>
            <a:ext cx="410364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able border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nable a table border to help visualize the table as you code.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e the </a:t>
            </a:r>
            <a:r>
              <a:rPr b="0" i="1" lang="en-US" sz="3200" spc="-1" strike="noStrike">
                <a:solidFill>
                  <a:srgbClr val="003399"/>
                </a:solidFill>
                <a:latin typeface="Arial"/>
              </a:rPr>
              <a:t>border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attribute:</a:t>
            </a: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&lt;table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border=“1”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458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94000" y="958680"/>
            <a:ext cx="70815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&lt;t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&lt;th&gt;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Product Name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&lt;/t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&lt;th&gt;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Net Weight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&lt;/t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&lt;th&gt;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Price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&lt;/t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&lt;/tr&gt;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newfig" descr=""/>
          <p:cNvPicPr/>
          <p:nvPr/>
        </p:nvPicPr>
        <p:blipFill>
          <a:blip r:embed="rId2"/>
          <a:stretch/>
        </p:blipFill>
        <p:spPr>
          <a:xfrm>
            <a:off x="1852560" y="3936960"/>
            <a:ext cx="4098960" cy="1371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able header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B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A: Creating tab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B: Modifying tab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ligning content in table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451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e the </a:t>
            </a:r>
            <a:r>
              <a:rPr b="0" i="1" lang="en-US" sz="3200" spc="-1" strike="noStrike">
                <a:solidFill>
                  <a:srgbClr val="003399"/>
                </a:solidFill>
                <a:latin typeface="Arial"/>
              </a:rPr>
              <a:t>align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attribute:</a:t>
            </a:r>
            <a:br>
              <a:rPr sz="3200"/>
            </a:br>
            <a:br>
              <a:rPr sz="32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&lt;td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align=“center”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&gt;This text will be centered in its cell.&lt;/td&gt;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You can align content to the 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op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ottom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enter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Vertical alignmen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8" name="newfig" descr=""/>
          <p:cNvPicPr/>
          <p:nvPr/>
        </p:nvPicPr>
        <p:blipFill>
          <a:blip r:embed="rId2"/>
          <a:stretch/>
        </p:blipFill>
        <p:spPr>
          <a:xfrm>
            <a:off x="2149560" y="1190520"/>
            <a:ext cx="538308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ell spacing and cell paddi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ell </a:t>
            </a:r>
            <a:r>
              <a:rPr b="0" i="1" lang="en-US" sz="3200" spc="-1" strike="noStrike">
                <a:solidFill>
                  <a:srgbClr val="003399"/>
                </a:solidFill>
                <a:latin typeface="Arial"/>
              </a:rPr>
              <a:t>spacing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is the space between cell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ell </a:t>
            </a:r>
            <a:r>
              <a:rPr b="0" i="1" lang="en-US" sz="3200" spc="-1" strike="noStrike">
                <a:solidFill>
                  <a:srgbClr val="003399"/>
                </a:solidFill>
                <a:latin typeface="Arial"/>
              </a:rPr>
              <a:t>padding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is the space between a cell and its conten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" name="newfig" descr=""/>
          <p:cNvPicPr/>
          <p:nvPr/>
        </p:nvPicPr>
        <p:blipFill>
          <a:blip r:embed="rId2"/>
          <a:stretch/>
        </p:blipFill>
        <p:spPr>
          <a:xfrm>
            <a:off x="1938240" y="3332160"/>
            <a:ext cx="522468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1T21:32:20Z</dcterms:created>
  <dc:creator>Brandon</dc:creator>
  <dc:description/>
  <dc:language>en-US</dc:language>
  <cp:lastModifiedBy>Brandon</cp:lastModifiedBy>
  <dcterms:modified xsi:type="dcterms:W3CDTF">2004-02-18T21:53:31Z</dcterms:modified>
  <cp:revision>29</cp:revision>
  <dc:subject/>
  <dc:title>Introduction to HTML 4.01</dc:title>
</cp:coreProperties>
</file>