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%20Slide%20Graphic%204%20150dpi%20s80%20c" descr=""/>
          <p:cNvPicPr/>
          <p:nvPr/>
        </p:nvPicPr>
        <p:blipFill>
          <a:blip r:embed="rId3"/>
          <a:stretch/>
        </p:blipFill>
        <p:spPr>
          <a:xfrm>
            <a:off x="0" y="615960"/>
            <a:ext cx="1060560" cy="624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61640" y="97128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ink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links to other documents in your site, and external Web sit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email links and append a subject line.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intra-document link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create links to pages inside and outside of your Web site, as well as how to make a link open in a new browser window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create email links and link titles, and how to append a subject line to an emai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create links to specific sections of a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Linking docu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E-mail lin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Intra-document lin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Hyperlinks (links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nect two or more docu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d by using the anchor tag: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&lt;a href=“page2.html”&gt;Link text&lt;/a&gt;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ppear blue, underlined by defaul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ttribut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fine specific element properti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4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pressed in attribute=“value” format: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&lt;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element attribute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=“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”&gt;Element Text&lt;/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element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nchor tag attribut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4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inks must use href attribute: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&lt;a href=“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news.html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”&gt;News&lt;/a&gt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8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 link in new window:</a:t>
            </a:r>
            <a:br>
              <a:rPr sz="3200"/>
            </a:br>
            <a:br>
              <a:rPr sz="32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a href=“http://www.google.com”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arget=“_blank”&gt;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oogle&lt;/a&gt;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Linking docu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B: E-mail lin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Intra-document lin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Email link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mail links launch email program, and include specified addres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mail link syntax:</a:t>
            </a:r>
            <a:br>
              <a:rPr sz="3200"/>
            </a:br>
            <a:br>
              <a:rPr sz="32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a href=“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ailto: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nyone@anywhere.com”&gt;Send Email&lt;/a&gt;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Linking docu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E-mail lin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C: Intra-document lin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Intra-document link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Jump to specific section of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ful in long documents to avoid scroll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ing a named anchor:</a:t>
            </a:r>
            <a:br>
              <a:rPr sz="3200"/>
            </a:b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a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ame=“MyAnchorName”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gt;Text to use as link destination&lt;/a&gt;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inking to a named anchor:</a:t>
            </a:r>
            <a:br>
              <a:rPr sz="3200"/>
            </a:b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&lt;a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href=“#MyAnchorName”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gt;Link To My Anchor&lt;/a&gt;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1:32:20Z</dcterms:created>
  <dc:creator>Brandon</dc:creator>
  <dc:description/>
  <dc:language>en-US</dc:language>
  <cp:lastModifiedBy>Brandon</cp:lastModifiedBy>
  <dcterms:modified xsi:type="dcterms:W3CDTF">2004-02-18T21:18:04Z</dcterms:modified>
  <cp:revision>20</cp:revision>
  <dc:subject/>
  <dc:title>Introduction to HTML 4.01</dc:title>
</cp:coreProperties>
</file>